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BB62-EA3B-42E9-9985-E4743774B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6DEB-BFC5-4B07-B575-6F5245F32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0E96-3AE1-4D3E-981B-8726F1F2C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4403-9A89-4861-80F3-906733BAC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FB28-7035-42BC-B04F-D7239D5AFB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964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0000" y="164304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7928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4964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0000" y="4366800"/>
            <a:ext cx="28285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0A3D-2562-4C68-BAD5-10C7DCC66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5306-46CA-486F-9E75-50362CD0D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FC6E-1E7B-4A7D-99C7-650B8AA98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691920"/>
            <a:ext cx="878544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E2A4-32EC-4415-B917-43240648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D841-7F93-4D68-A2C8-5E7E3FE4A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36680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60D6-5536-4B8A-BC86-8D51316E6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643040"/>
            <a:ext cx="42872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366800"/>
            <a:ext cx="87854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D6C0-9257-40B5-88D3-87135A471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6EF9-127D-458E-B88F-88EB3F503D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2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92080" indent="-34920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44600" indent="-27288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95320" indent="-27144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236680" indent="-261720">
              <a:spcBef>
                <a:spcPts val="799"/>
              </a:spcBef>
              <a:buClr>
                <a:srgbClr val="f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236680" indent="-261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9280" y="691920"/>
            <a:ext cx="878544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hannel9.msdn.com/posts/Charles/Jeffrey-Richter-and-his-AsyncEnumerator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142720"/>
            <a:ext cx="8713800" cy="142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 Tipp: AsyncExecutor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54160" y="3635280"/>
            <a:ext cx="683568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17.02.200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alf Hoffman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08000" y="5951520"/>
            <a:ext cx="88930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ralf.hoffmann    gmx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693880" y="6591240"/>
            <a:ext cx="18252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85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ynchroner Aufruf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5486040"/>
            <a:ext cx="8763120" cy="1143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Eine Methode für die komplette Ak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ahoma"/>
              </a:rPr>
              <a:t>Blockiert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n UI Threa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2280" y="1447920"/>
            <a:ext cx="8763120" cy="350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Synchronous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Message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"Loading Persons...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72bfc5"/>
                </a:solidFill>
                <a:latin typeface="Courier New"/>
                <a:ea typeface="Courier New"/>
              </a:rPr>
              <a:t>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forea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Collection.Add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72bfc5"/>
                </a:solidFill>
                <a:latin typeface="Courier New"/>
                <a:ea typeface="Courier New"/>
              </a:rPr>
              <a:t>Perso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usMessage = </a:t>
            </a:r>
            <a:r>
              <a:rPr b="1" lang="en-US" sz="1600" spc="-1" strike="noStrike">
                <a:solidFill>
                  <a:srgbClr val="c00000"/>
                </a:solidFill>
                <a:latin typeface="Courier New"/>
                <a:ea typeface="Courier New"/>
              </a:rPr>
              <a:t>"Finished loading persons"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5"/>
          <p:cNvSpPr/>
          <p:nvPr/>
        </p:nvSpPr>
        <p:spPr>
          <a:xfrm>
            <a:off x="6095880" y="914400"/>
            <a:ext cx="2514600" cy="1069920"/>
          </a:xfrm>
          <a:prstGeom prst="wedgeRoundRectCallout">
            <a:avLst>
              <a:gd name="adj1" fmla="val -50814"/>
              <a:gd name="adj2" fmla="val 103750"/>
              <a:gd name="adj3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oundtrip zum Server – Kann lange dau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3809880" y="2514600"/>
            <a:ext cx="28958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8544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ynchron mit </a:t>
            </a:r>
            <a:r>
              <a:rPr b="1" lang="de-DE" sz="3200" spc="-1" strike="noStrike" u="sng">
                <a:solidFill>
                  <a:srgbClr val="f69200"/>
                </a:solidFill>
                <a:uFillTx/>
                <a:latin typeface="Verdana"/>
              </a:rPr>
              <a:t>BackgroundWork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76320" y="1295280"/>
            <a:ext cx="897876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BackgroundWork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Worker =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76320" y="1752480"/>
            <a:ext cx="8978760" cy="1310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_StartBackgroundWork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Create worker and attach to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Start the wor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90360" y="3048120"/>
            <a:ext cx="8977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getPersonsWorker_DoWork(object sender, DoWorkEventArgs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de-DE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Do the roundtrip and set e.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46880" y="4038480"/>
            <a:ext cx="883728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private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PersonsWorker_RunWorkerCompleted(object sender, Args 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r>
              <a:rPr b="1" lang="de-DE" sz="1600" spc="-1" strike="noStrike">
                <a:solidFill>
                  <a:srgbClr val="00b050"/>
                </a:solidFill>
                <a:latin typeface="Courier New"/>
                <a:ea typeface="Courier New"/>
              </a:rPr>
              <a:t>//get and cast e.Results and fill the col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haltsplatzhalter 2"/>
          <p:cNvSpPr/>
          <p:nvPr/>
        </p:nvSpPr>
        <p:spPr>
          <a:xfrm>
            <a:off x="152280" y="5334120"/>
            <a:ext cx="8763120" cy="12189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ckiert den UI Thread n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 zusätzliche Methoden und eine Instanzvariab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erschachteln ist sehr schwierig und unübersichtl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9"/>
          <p:cNvSpPr/>
          <p:nvPr/>
        </p:nvSpPr>
        <p:spPr>
          <a:xfrm>
            <a:off x="228600" y="1219320"/>
            <a:ext cx="8720280" cy="4231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private void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GetPersonsSynchronousl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Loading Persons..."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List&lt;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string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foreach (var name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Collection.Add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Person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1" lang="en-US" sz="1600" spc="-1" strike="noStrike">
                <a:solidFill>
                  <a:srgbClr val="a31515"/>
                </a:solidFill>
                <a:latin typeface="Courier New"/>
              </a:rPr>
              <a:t>"Finished loading persons“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785440" cy="67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ynchron mit </a:t>
            </a:r>
            <a:r>
              <a:rPr b="1" lang="de-DE" sz="3200" spc="-1" strike="noStrike" u="sng">
                <a:solidFill>
                  <a:srgbClr val="f69200"/>
                </a:solidFill>
                <a:uFillTx/>
                <a:latin typeface="Verdana"/>
              </a:rPr>
              <a:t>AsyncExecuto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5638320"/>
            <a:ext cx="8763120" cy="1143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Vor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ockiert den UI Thread nicht; Nur eine Methode für d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anze Aktion; Verschachteln einf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Nachtei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28600" y="1219320"/>
            <a:ext cx="8720280" cy="4231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GetPersons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Async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UI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Collection.Clea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</a:rPr>
              <a:t>"Loading Persons...";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WorkerThre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List&lt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tring&gt; persons = provider.GetPersons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UIThread; 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foreach (var name in pers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Collection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Person { Name = name }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usMessage = </a:t>
            </a:r>
            <a:r>
              <a:rPr b="0" lang="en-US" sz="1600" spc="-1" strike="noStrike">
                <a:solidFill>
                  <a:srgbClr val="a31515"/>
                </a:solidFill>
                <a:latin typeface="Courier New"/>
              </a:rPr>
              <a:t>"Finished loading persons“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started man eine Aktio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04640" y="1905120"/>
            <a:ext cx="8547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ötige Methoden Signatu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800" spc="-1" strike="noStrike">
                <a:solidFill>
                  <a:srgbClr val="2b91a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GetPersonsAsync</a:t>
            </a:r>
            <a:r>
              <a:rPr b="0" lang="en-US" sz="18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m Constru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Executor =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ew </a:t>
            </a:r>
            <a:r>
              <a:rPr b="1" lang="en-US" sz="1800" spc="-1" strike="noStrike">
                <a:solidFill>
                  <a:srgbClr val="2b91af"/>
                </a:solidFill>
                <a:latin typeface="Courier New"/>
              </a:rPr>
              <a:t>AsyncExecu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Click Handler (oder CommandBinding Execu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yncExecutor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rtExecu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GetPersonsAsyn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verschachtelt man Aktion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82600" y="1600200"/>
            <a:ext cx="859284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 benutz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Executor.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u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anstatt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Execu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s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GetAgesAsynchronously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IEnumerator&lt;SwitchExecutionContext&gt;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 GetPersonsAsync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Switch to Worker Th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yield return </a:t>
            </a:r>
            <a:r>
              <a:rPr b="1" lang="en-US" sz="1600" spc="-1" strike="noStrike">
                <a:solidFill>
                  <a:srgbClr val="2b91af"/>
                </a:solidFill>
                <a:latin typeface="Courier New"/>
              </a:rPr>
              <a:t>SwitchExecutionContext.ToWorkerThread</a:t>
            </a:r>
            <a:r>
              <a:rPr b="0" lang="en-US" sz="1600" spc="-1" strike="noStrike">
                <a:solidFill>
                  <a:srgbClr val="2b91a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yncExecutor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oGetAgesAsynchronous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964720" cy="52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e funktioniert der </a:t>
            </a:r>
            <a:r>
              <a:rPr b="1" i="1" lang="de-DE" sz="3200" spc="-1" strike="noStrike">
                <a:solidFill>
                  <a:srgbClr val="f69200"/>
                </a:solidFill>
                <a:latin typeface="Verdana"/>
              </a:rPr>
              <a:t>AsyncExecutor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18960"/>
            <a:ext cx="8785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  <a:ea typeface="Courier New"/>
              </a:rPr>
              <a:t>SwitchExecutionCont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t eine Enumeration mit 2 Werten: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UIThrea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  <a:ea typeface="Courier New"/>
              </a:rPr>
              <a:t>,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oWorkerThr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</a:t>
            </a: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Construc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s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Execu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rd der aktuell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nchronizationCont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lesen und einer Klassenvariable zugewies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StartExecution (methodToExecute)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iest eine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erator&lt;SwitchExecutionContext&gt;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s Rückgabewert der gegebenen Method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N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ird auf dem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Enumerator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fgerufen. Die Ausführung läuft dann von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ield retu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ield retur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.Net 2.0 Feature)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e nach Rückgabewert wird dann das nächste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eNex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f einem Threadpool Thread (der zu Beginn der Methode bestimmt wird) oder auf dem UI Thread ausgeführt.</a:t>
            </a:r>
            <a:br>
              <a:rPr sz="2000"/>
            </a:b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IsBusy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rd beim Start gesetzt, und am Ende wieder zurückgesetz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41640" indent="-341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b050"/>
                </a:solidFill>
                <a:latin typeface="Tahoma"/>
              </a:rPr>
              <a:t>Execute(methodToExecute)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nutzt den aktuellen Thread als Workerthr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96472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9280" y="1643040"/>
            <a:ext cx="8785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spiriert v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3600" indent="-363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hlinkClick r:id="rId1"/>
              </a:rPr>
              <a:t>http://channel9.msdn.com/posts/Charles/Jeffrey-Richter-and-his-AsyncEnumerator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3:52:03Z</dcterms:created>
  <dc:creator>RalfHo</dc:creator>
  <dc:description/>
  <dc:language>en-US</dc:language>
  <cp:lastModifiedBy>RalfHo</cp:lastModifiedBy>
  <dcterms:modified xsi:type="dcterms:W3CDTF">2009-02-16T15:41:20Z</dcterms:modified>
  <cp:revision>39</cp:revision>
  <dc:subject/>
  <dc:title>Titel des Vortrags</dc:title>
</cp:coreProperties>
</file>