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B430-E647-4B40-90AD-0FDCF1DA6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B400-71EB-4166-B4D6-2FB31B26D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EE40-AFEF-482C-9BBE-AA6EC9A14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66C2-0938-44E7-9134-B9085D08F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2DE6-5F43-4EC4-AE1A-9F11C9D2A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991C-97F2-4DAD-8268-AA9F98887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F367-E2B1-4A59-AEF2-63835A31E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E811-6824-412C-807D-0B34FF605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D069-A363-40B3-93C0-2BD6C755D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4008-7FE8-4350-B1DB-579CDC809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497C-1266-46C6-9AD3-1E80984C8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2646-0C77-4CFB-ADE9-F97CDCE30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A213-ABBC-47AD-ABB3-7CFDBD093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164903(VS.80).a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 Tip:</a:t>
            </a:r>
            <a:br>
              <a:rPr sz="3600"/>
            </a:b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S 2005</a:t>
            </a:r>
            <a:br>
              <a:rPr sz="3600"/>
            </a:b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„Make Object ID“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2.05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erhard Schlem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bugging und Objektident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 Watch-Fenster werden Objekte in der Regel durch ihren Namen im aktuellen Scope identifizi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durch können die Objekte nicht dauerhaf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gesehen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ziehungen zwischen mehreren Objekten werden im Watch-Fenster nicht k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bugging und Objektident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s ist aber im Watch-Fenster auch möglich, mit der echten Identität beobachteter Objekte zu arb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rundlegendes Prinz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bjekt anhand seinen Namens als Watch einfügen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um es initial zu identifiz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S mitteilen, daß das Objekt ab jetzt zusätzlich per echter Objektidentität indentifiziert werden so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45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Kontextmenü im Watch-Fenster: „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ke Object ID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S vergibt dann eine Alias der Form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&lt;Zahl&gt;#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ür das Ob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bugging und Objektident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ßerdem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ll das Objekt dauerhaft im Watch-Fenster erscheinen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ann es unter seinem Alias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&lt;Zahl&gt;#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hinzugefüg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züge zwischen Objekten werden sichtbar – hat ein Objekt ein Alias, wird dieses im Watch-Fenster mit angezeig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e per Alias bezeichneten Objekte können z.B. bei bedingten Breakpoints verwende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45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eispiel: Breakpoint auf die Ausführung einer Method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ines bestimmten, per Alias identifizierten Objekts beschränk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e Identifizierung eines Objekts per Alias kann über das Kontextmenü mit „Delete Object ID“ ausgeschalte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30715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40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bugging und Objektident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merku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ilt nicht nur für das Watch-Fenster, sondern auch für die Quickwatch-Anzei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ur C#, nicht V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2005 und OR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ab es bei Objekten, die „unmanaged“ sind, schon immer über deren Adressen ;-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5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http://msdn2.microsoft.com/en-us/library/ms164903(VS.80).asp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4:12:06Z</dcterms:created>
  <dc:creator>Gerhard Schlemm</dc:creator>
  <dc:description/>
  <dc:language>en-US</dc:language>
  <cp:lastModifiedBy>Gerhard Schlemm</cp:lastModifiedBy>
  <dcterms:modified xsi:type="dcterms:W3CDTF">2007-05-22T16:03:07Z</dcterms:modified>
  <cp:revision>15</cp:revision>
  <dc:subject/>
  <dc:title>Quick Tip: VS 2005 „Make Object ID“</dc:title>
</cp:coreProperties>
</file>