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DFF1-3BBB-47C7-84B3-9D54EA945E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8257-3DBD-4D1D-B7E7-6D44835C18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DF32-D75D-45E5-86EF-69143F0D51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DC47-90D6-4C35-9447-62C4C36E2F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3F89-233A-4FF4-A9E9-C5AFF34788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8141-8A78-4F1E-9289-B84BAAC05C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BD77-B0CB-4F73-8F3C-F6039F92F3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275E-EA1F-43D1-8C68-7BE53FC6C1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456A-B787-4756-9CF7-BE5316A945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F42A-D7E8-4EF8-8B5A-058924F3E3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BC9E-CB9D-468F-86AD-F2958662BA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F623-2264-4879-9899-AFF93EA784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70AE-8052-4E33-A8C7-814545E78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vb-1@psimarron.net" TargetMode="External"/><Relationship Id="rId2" Type="http://schemas.openxmlformats.org/officeDocument/2006/relationships/hyperlink" Target="http://www.jochen.jochen-manns.de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3640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lient / Server Architektur</a:t>
            </a:r>
            <a:br>
              <a:rPr sz="3200"/>
            </a:br>
            <a:r>
              <a:rPr b="1" i="1" lang="de-DE" sz="2400" spc="-1" strike="noStrike">
                <a:solidFill>
                  <a:srgbClr val="f69200"/>
                </a:solidFill>
                <a:latin typeface="Verdana"/>
              </a:rPr>
              <a:t>Am Beispiel des VCR.NET Recording Service</a:t>
            </a:r>
            <a:endParaRPr b="1" lang="en-US" sz="24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82896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4.04.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r. Jochen Man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08000" y="5951520"/>
            <a:ext cx="88930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mailto:dvb-1@psimarro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site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http://www.jochen.jochen-manns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hteck 6"/>
          <p:cNvSpPr/>
          <p:nvPr/>
        </p:nvSpPr>
        <p:spPr>
          <a:xfrm>
            <a:off x="0" y="2571840"/>
            <a:ext cx="9144000" cy="1429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Grafik 4" descr="Bild1.jpg"/>
          <p:cNvPicPr/>
          <p:nvPr/>
        </p:nvPicPr>
        <p:blipFill>
          <a:blip r:embed="rId3"/>
          <a:srcRect l="0" t="0" r="0" b="55965"/>
          <a:stretch/>
        </p:blipFill>
        <p:spPr>
          <a:xfrm>
            <a:off x="0" y="0"/>
            <a:ext cx="91440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rchitektur 2003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3492360" y="2205000"/>
            <a:ext cx="4896000" cy="33130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95280" y="3500280"/>
            <a:ext cx="1943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4284720" y="2924280"/>
            <a:ext cx="1582560" cy="8650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6156360" y="5805360"/>
            <a:ext cx="17272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zei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2411280" y="386064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393640" y="3521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 rot="16200000">
            <a:off x="5182920" y="3607920"/>
            <a:ext cx="2809800" cy="14414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5437440" y="2205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6444360" y="292428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d In/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1908000" y="3645000"/>
            <a:ext cx="360360" cy="64764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hr Ideen…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Ho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basierter SOAP Server (ASM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Thi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 (ASP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 macht eigentlich nicht vi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el Kommunikationsverlust, trä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os der (paar) Anwender haben Client =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nn kann auch der Dienst den Client mac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ipp 3: Kompatibilitä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l brechen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NET 1.1 SOAP Remoting inkompati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NET 2.0 ASP.NET SOAP eleg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10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moting durch ASP.NET Hosting ersetz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 wenn möglich anbi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rsprüngliche ASP.NET SOAP Schnit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iterentwickl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APServer.asmx für alte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APServer20.asmx für neue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hr Funktionalität in neuen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P.NET Host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1.1 mühs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2.0 bes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icht für alle Windows Versionen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icht ganz triv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 vollständiger IIS (e.g. Dateizugriff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icht ganz fehlerfrei (e.g. Chunk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 bisschen Code drum herum notwend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kurs: ASP.NET 2.0 Host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wendung übernimmt TCP/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NET 1.1 via Cassini (nie gemach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NET 2.0 via HttpListener und Http.S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gene ASP.NET AppDomain(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rshalByRef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ttp.S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n2k+3 (kein Win2k), Win XP SP2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CP/IP Port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IS 5.1 nutzt das leider nic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rchitektur 2006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3492360" y="2205000"/>
            <a:ext cx="4896000" cy="4464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95280" y="2637000"/>
            <a:ext cx="194328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4284720" y="2924280"/>
            <a:ext cx="1582560" cy="7207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6084720" y="1268280"/>
            <a:ext cx="17272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zei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411280" y="2997360"/>
            <a:ext cx="936720" cy="215640"/>
          </a:xfrm>
          <a:prstGeom prst="rightArrow">
            <a:avLst>
              <a:gd name="adj1" fmla="val 50000"/>
              <a:gd name="adj2" fmla="val 10859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393640" y="26575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 flipV="1" rot="5400000">
            <a:off x="5759280" y="2168280"/>
            <a:ext cx="1512720" cy="1297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437440" y="2205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6444360" y="342900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d In/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286880" y="30686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4427640" y="3789360"/>
            <a:ext cx="1296720" cy="2232000"/>
          </a:xfrm>
          <a:custGeom>
            <a:avLst/>
            <a:gdLst>
              <a:gd name="textAreaLeft" fmla="*/ 63000 w 1296720"/>
              <a:gd name="textAreaRight" fmla="*/ 1233720 w 1296720"/>
              <a:gd name="textAreaTop" fmla="*/ 63000 h 2232000"/>
              <a:gd name="textAreaBottom" fmla="*/ 2169000 h 2232000"/>
            </a:gdLst>
            <a:ahLst/>
            <a:rect l="textAreaLeft" t="textAreaTop" r="textAreaRight" b="textAreaBottom"/>
            <a:pathLst>
              <a:path w="21600" h="37175">
                <a:moveTo>
                  <a:pt x="3600" y="0"/>
                </a:moveTo>
                <a:arcTo wR="3600" hR="3600" stAng="16200000" swAng="-5400000"/>
                <a:lnTo>
                  <a:pt x="0" y="33575"/>
                </a:lnTo>
                <a:arcTo wR="3600" hR="3600" stAng="10800000" swAng="-5400000"/>
                <a:lnTo>
                  <a:pt x="18000" y="37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4501440" y="3932280"/>
            <a:ext cx="117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P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App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4500720" y="4797360"/>
            <a:ext cx="11523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395280" y="4653000"/>
            <a:ext cx="1943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2411280" y="5013360"/>
            <a:ext cx="2016360" cy="216000"/>
          </a:xfrm>
          <a:prstGeom prst="rightArrow">
            <a:avLst>
              <a:gd name="adj1" fmla="val 50000"/>
              <a:gd name="adj2" fmla="val 2333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341800" y="46530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rchitektur 2006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eparate Aufzeichnungsproze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Hosting in eigener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App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SOAP (ASM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Thi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 (ASP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sentlich performanter: weniger Kommunik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s für spezielle Aufga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Überwachung des Dien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tegration mit Fremdanwend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ipp 4: Migrationsschien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1.1 Remoting SOAP /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 [-v2.6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ie ursprüngliche Id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P.NET SOAP /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 [v2.7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mstellung ASP.NET Hosting aufwänd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ieber erst mal eine Bauste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P.NET SOAP /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Thin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 [v3.0-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 würde weiterhin lauf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lient / Serv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rver Host finden, 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ndows Service: beste Lebenszeitkontro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IS: beste ASP.NET Umgeb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tokolle definieren, 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ransportschicht wie SOAP über HT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edizierte, stabile Schnit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e ASMX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s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ine Schnittstell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lient konzipieren, 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Thi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und alles dazwisc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allstricke – ein Auszu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/Invoke und MFC Extension D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# Klasse von C++ Klasse ablei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rtuelle Funktio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 InterOp Gen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ignaturen und PreservS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nPowerEvent .NET 1.1 vs. .NET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P.NET AppDomain Rest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und Exce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itializeLifetimeService gegen spotanes Sterb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blemstell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urze Übersic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achliches Problem ist hier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nich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das T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lient / Server Architekt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forderungen an den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nsequenzen für den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istorische Entwickl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n paar Fallstric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kurs: OnPowerEven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-3560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lafzustand (StandBy / Hiberna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tokoll beim Schlafengehen mit Ve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tokoll beim Aufwac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6040" indent="-3560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1.1 Service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lle Protokollunterstütz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eto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Ordnung erhal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6040" indent="-3560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2.0 ServiceB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 Veto, indeterministische Aufrufreihenfol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4" descr="j0286034"/>
          <p:cNvPicPr/>
          <p:nvPr/>
        </p:nvPicPr>
        <p:blipFill>
          <a:blip r:embed="rId1"/>
          <a:stretch/>
        </p:blipFill>
        <p:spPr>
          <a:xfrm>
            <a:off x="4643280" y="5445000"/>
            <a:ext cx="50508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m En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Lo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jochen.jochen-manns.de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VCR.NE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psimarron.net/VCRNET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psimarron.net/DVBNET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highpaqnet.de/Forum/index.php?showforum=3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blemstel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VB-S PCI Karte 2003 gekauf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ür Aufzeichnungen auf dem 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ernsehen / Radio absolut nebensäch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nkos vorhandener 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m Hersteller oder and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wender muss angemelde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wendung muss lauf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ndows Task Scheduler verwend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eute etwas bes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dee für den Serv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ta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griff auf die Hardware ohne Anw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lafzustand und Aufwac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 Task Schedu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# / 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blem DVB Schnit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Sehr) properitär (MFC Extension D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OM basiert (Microsoft BD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ipp 1: Faktoris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genständige DVB Biblioth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sschließlich Zugriff auf die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nabhängige Entwickl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nabhängige 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 nutzt di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ümmert sich um die Zeitplan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erwaltet den Schlafzust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nabhängig von der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fzeichnungsprozes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VB Hardware manchmal zick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ede Aufzeichnung in eigenem Proz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m Windows Dienst gestart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mmunikation über Standard In /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inäre Serialisier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fehlsobjekte Dienst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Proz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twortobjekte Prozess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Dien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Überwachung des Lebenszyk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dee für den Clien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OAP Zugri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mals .NET 1.1 Remo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lso ein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andard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System.Windows.Form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nventionelle Techni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 als SOAP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Remoting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weiterungen zum Zugriffsschu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ipp 2: SOAP Proxi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b Reference auf unterster Eb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fach erzeug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wache Implementier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ahe am Netzwerkprotoko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eine Semantik der Datenstruktu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xy Assemb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apselt die Web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ügt Semantik hinz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rray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Methoden Add und Re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MT / UTC Zeiten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lokale Zei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rchitektur 2003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OAP Schnittstelle zum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ibliothek zum Zugriff auf die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lgorithmus für Planung von Aufzeichn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fzeichnungsproz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m Windows Dienst gestart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inäre Serialisierung zur Kommunik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System.Windows.Form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edizierter SOAP 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3:05:59Z</dcterms:created>
  <dc:creator>Dr. Jochen Manns</dc:creator>
  <dc:description/>
  <dc:language>en-US</dc:language>
  <cp:lastModifiedBy>Roland Weigelt</cp:lastModifiedBy>
  <dcterms:modified xsi:type="dcterms:W3CDTF">2007-04-22T12:06:17Z</dcterms:modified>
  <cp:revision>52</cp:revision>
  <dc:subject/>
  <dc:title>Folie 1</dc:title>
</cp:coreProperties>
</file>