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E58E-0B36-4687-B48F-1CF3A0392A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3046-C85E-450D-AFCF-29964D8C3F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A68-C722-497D-B569-564B2D67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F27-C3FD-461B-9E50-4B125BC871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029-6C87-4E17-BBC4-CB2A782F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AB0-6AC4-416E-9A64-08C9AAE5E1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565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6FE-D505-4A45-AAA5-864586138644}" type="datetime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fld id="{11201E5A-BDF2-4403-89AC-F465094C6FD8}" type="datetime10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15:4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5652"/>
          <p:cNvSpPr/>
          <p:nvPr/>
        </p:nvSpPr>
        <p:spPr>
          <a:xfrm>
            <a:off x="5583240" y="8683560"/>
            <a:ext cx="12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6BE-6AB9-4577-93D4-BDF7C34C0B87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5653"/>
          <p:cNvSpPr/>
          <p:nvPr/>
        </p:nvSpPr>
        <p:spPr>
          <a:xfrm>
            <a:off x="0" y="8791560"/>
            <a:ext cx="5667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© 2004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565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ext Generation Business Solutions Platform Strateg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79E9-DAB0-4419-AAD5-B6F1A2754F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EE31-86A4-4819-B18A-8CA718A5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5C8A-1F64-4B0D-BDB7-BF8D81F32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xt: These are the four goals of WPF – next few slides drill down further on eac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I, graphics, documents and media into a single environment: providing a richer experience by unifying these together, allowing them to be integrated in a far deeper way than before, and reducing the number of APIs developers have to track by putting things into a single managed object-orientated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 graphics processors woefully underused by modern applications. 128MB memory, rich 3D capabilities. Avalon takes advantage of these capabilities using a DirectX-based model. Vector- rather than bitmap-based, supports high-dpi, double buffe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and procedural programming supported for designers and developers to do what they wan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make it as easy as “clicking on a link” to deploy an Avalon application: either via a browser or via a standalone ap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B69B-A872-46B3-BDF7-305FEF49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7EA1-C543-4DB0-B7E6-B484791F04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50BF-10FF-4F77-A224-AF47B091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4750-AA16-4D42-8A58-A333954851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8C69-2CFB-4255-9B5E-5B363FF4C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AF15-7414-4842-AE94-A90E3E158F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BC4-10E9-4499-9681-29089882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9632-FCD6-4F4E-BA71-B1953AECFD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BB5D-3EF7-4C74-8839-60D15FE1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846-268C-4D17-BE73-9F36BFBB30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503-E0B8-43C0-889A-4E1E3E0CB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4CF4-2490-472C-A710-88D9C4D728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5583240" y="8685360"/>
            <a:ext cx="127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269-075D-4DB2-AD77-D7840A47E682}" type="slidenum"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AD1-1594-4CD5-8F5B-F582147847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9FE9-2DFF-4684-802E-AC695149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5D1-CE62-4B8D-B00E-669FA29FF5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60BE-6343-4B87-8647-F3E9B476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2F68-9D1D-4DBD-91AB-DD9C7F6744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3C0-8ACB-471E-97D0-1CBF203FB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73C-0CF2-471F-924A-F25C4360FE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50AE-C386-445B-A35D-152F754F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F79-CFAF-491A-9C33-01BF0CD82A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553-B1AC-4094-B5C8-0554F0C0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FBB-5E93-4A07-9963-60575F31FF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6600-E506-4B50-952A-2900B3F0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E35-A746-485D-AEDE-F5612ACC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16C-B484-44FC-89B9-5DEF5301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95C-4887-4845-AC3E-EF228A72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8B7-EA89-4E7F-BCBF-86AC927A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7DC-9102-44E1-A7A9-16EF4A4A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C09-AE2F-4B48-9C27-21E4F5E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0B4-E178-442A-BBA0-15D20DC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EC6-4C2F-4D3B-8671-F06D977D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0A4-6082-4F3F-9DF7-77E7467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DAB-25ED-4B57-AC44-772AF63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D60-F02B-42F3-BAB5-79204D8E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2B9-5281-4AC7-B622-52087817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AFE-DEA5-4C66-9D4B-776769AE28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2320" y="1414440"/>
            <a:ext cx="83804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24760" indent="-350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95920" indent="-3690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529280" indent="-331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dev_sub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586800" indent="-22572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2" marL="902880" indent="-18036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3" marL="1263960" indent="-18036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4" marL="1625040" indent="-180360">
              <a:spcBef>
                <a:spcPts val="799"/>
              </a:spcBef>
              <a:buClr>
                <a:srgbClr val="ffffff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Stefan.Lange@empira.de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Background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Windows Vista</a:t>
            </a: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aus Entwicklersicht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27.02.2007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Microsoft .NET Framework 3.0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5" name="TextBox 27"/>
          <p:cNvSpPr/>
          <p:nvPr/>
        </p:nvSpPr>
        <p:spPr>
          <a:xfrm>
            <a:off x="2790720" y="157464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Present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Next generation user experi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2803680" y="595800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CardSpace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Digital identity 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333"/>
          <p:cNvSpPr/>
          <p:nvPr/>
        </p:nvSpPr>
        <p:spPr>
          <a:xfrm>
            <a:off x="6140520" y="3463920"/>
            <a:ext cx="3003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Workflow         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Business process mode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168"/>
          <p:cNvSpPr/>
          <p:nvPr/>
        </p:nvSpPr>
        <p:spPr>
          <a:xfrm>
            <a:off x="0" y="3463920"/>
            <a:ext cx="318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Communic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Service-oriented develop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Rectangle 25605" descr=""/>
          <p:cNvPicPr/>
          <p:nvPr/>
        </p:nvPicPr>
        <p:blipFill>
          <a:blip r:embed="rId1"/>
          <a:stretch/>
        </p:blipFill>
        <p:spPr>
          <a:xfrm>
            <a:off x="7523280" y="6086520"/>
            <a:ext cx="1544400" cy="69516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2560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852640" y="4670280"/>
            <a:ext cx="379440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7"/>
          <p:cNvGrpSpPr/>
          <p:nvPr/>
        </p:nvGrpSpPr>
        <p:grpSpPr>
          <a:xfrm>
            <a:off x="3360600" y="2471760"/>
            <a:ext cx="2775240" cy="2771640"/>
            <a:chOff x="3360600" y="2471760"/>
            <a:chExt cx="2775240" cy="2771640"/>
          </a:xfrm>
        </p:grpSpPr>
        <p:pic>
          <p:nvPicPr>
            <p:cNvPr id="272" name="Rectangle 25608" descr=""/>
            <p:cNvPicPr/>
            <p:nvPr/>
          </p:nvPicPr>
          <p:blipFill>
            <a:blip r:embed="rId3"/>
            <a:stretch/>
          </p:blipFill>
          <p:spPr>
            <a:xfrm>
              <a:off x="336060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ectangle 25609" descr=""/>
            <p:cNvPicPr/>
            <p:nvPr/>
          </p:nvPicPr>
          <p:blipFill>
            <a:blip r:embed="rId4"/>
            <a:stretch/>
          </p:blipFill>
          <p:spPr>
            <a:xfrm>
              <a:off x="474768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ectangle 25610" descr=""/>
            <p:cNvPicPr/>
            <p:nvPr/>
          </p:nvPicPr>
          <p:blipFill>
            <a:blip r:embed="rId5"/>
            <a:stretch/>
          </p:blipFill>
          <p:spPr>
            <a:xfrm>
              <a:off x="336060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Rectangle 25611" descr=""/>
            <p:cNvPicPr/>
            <p:nvPr/>
          </p:nvPicPr>
          <p:blipFill>
            <a:blip r:embed="rId6"/>
            <a:stretch/>
          </p:blipFill>
          <p:spPr>
            <a:xfrm>
              <a:off x="474768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Rectangle 25612" descr=""/>
            <p:cNvPicPr/>
            <p:nvPr/>
          </p:nvPicPr>
          <p:blipFill>
            <a:blip r:embed="rId7"/>
            <a:stretch/>
          </p:blipFill>
          <p:spPr>
            <a:xfrm>
              <a:off x="3740760" y="2851560"/>
              <a:ext cx="20156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egoe"/>
              </a:rPr>
              <a:t>WPF Vis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1414440"/>
            <a:ext cx="52563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Unified approach to UI, Documents, and Media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Integration as part of development and experienc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Integrated, vector-based composition engine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Utilizing the power of the PC throughout the graphics stack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Declarative programming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ringing designers directly into application developmen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Ease of deploymen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llowing administrators to deploy and manage applications securel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5173560" y="925200"/>
            <a:ext cx="3866400" cy="4241520"/>
            <a:chOff x="5173560" y="925200"/>
            <a:chExt cx="3866400" cy="4241520"/>
          </a:xfrm>
        </p:grpSpPr>
        <p:pic>
          <p:nvPicPr>
            <p:cNvPr id="280" name="Picture 5" descr="secondpage"/>
            <p:cNvPicPr/>
            <p:nvPr/>
          </p:nvPicPr>
          <p:blipFill>
            <a:blip r:embed="rId1"/>
            <a:stretch/>
          </p:blipFill>
          <p:spPr>
            <a:xfrm rot="294600">
              <a:off x="5257440" y="2895480"/>
              <a:ext cx="3670200" cy="21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" descr="thirdpage"/>
            <p:cNvPicPr/>
            <p:nvPr/>
          </p:nvPicPr>
          <p:blipFill>
            <a:blip r:embed="rId2"/>
            <a:stretch/>
          </p:blipFill>
          <p:spPr>
            <a:xfrm rot="21154800">
              <a:off x="5410080" y="1143000"/>
              <a:ext cx="3510000" cy="20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11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egoe"/>
              </a:rPr>
              <a:t>WPF capabilities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1722600" y="17524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Windows Presentation Found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9" descr="WinFXLogo"/>
          <p:cNvPicPr/>
          <p:nvPr/>
        </p:nvPicPr>
        <p:blipFill>
          <a:blip r:embed="rId1"/>
          <a:stretch/>
        </p:blipFill>
        <p:spPr>
          <a:xfrm>
            <a:off x="609480" y="4876920"/>
            <a:ext cx="1619280" cy="861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0" descr="WinFX"/>
          <p:cNvPicPr/>
          <p:nvPr/>
        </p:nvPicPr>
        <p:blipFill>
          <a:blip r:embed="rId2"/>
          <a:stretch/>
        </p:blipFill>
        <p:spPr>
          <a:xfrm>
            <a:off x="457200" y="2155680"/>
            <a:ext cx="8458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 Applik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lassische Windows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XBAP (XML Browser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nur auf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/E (Cod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kein .NET auf dem Client notwe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Browserübergrei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79872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XBAP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886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e Unterstützung von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D Graf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eicher Quellcode wie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bild im I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495680" y="1676520"/>
            <a:ext cx="41911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ähnlich wie Flash und in allen Brows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s C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AML und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mnäch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anged Code (C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C#, VB .NET etc. programm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86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Orca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ächste Version von Visual Studi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nächste Version von C#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-Target Suppo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nsthafter Support für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 CTP noch ohne WPF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 Editions bleiben er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chnische Verbess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ass”, Common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 Side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resentatio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ion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button-rgb-v4"/>
          <p:cNvPicPr/>
          <p:nvPr/>
        </p:nvPicPr>
        <p:blipFill>
          <a:blip r:embed="rId1"/>
          <a:stretch/>
        </p:blipFill>
        <p:spPr>
          <a:xfrm>
            <a:off x="7238880" y="914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O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icrosoft Expre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duktfamilie für Grafiker und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Bl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Web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-Entwicklungsumgebu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 FrontPage hervorgega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fügbar seit Dezember 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9" descr="standards00_450x253"/>
          <p:cNvPicPr/>
          <p:nvPr/>
        </p:nvPicPr>
        <p:blipFill>
          <a:blip r:embed="rId1"/>
          <a:stretch/>
        </p:blipFill>
        <p:spPr>
          <a:xfrm>
            <a:off x="1600200" y="3200400"/>
            <a:ext cx="59436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Blen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YSIWYG-Editor für XAM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Adobe Dir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9" descr="EfficientCollaboration_450x253"/>
          <p:cNvPicPr/>
          <p:nvPr/>
        </p:nvPicPr>
        <p:blipFill>
          <a:blip r:embed="rId1"/>
          <a:stretch/>
        </p:blipFill>
        <p:spPr>
          <a:xfrm>
            <a:off x="1905120" y="335268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Desig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eint die Vorteile von Vektor- und Pixeltechnik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Expression des ehem. Software-herstellers Creature House (übernommen 2004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ann XAML und PDF produzie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Picture 7" descr="InnoVectorDrawing_450x253"/>
          <p:cNvPicPr/>
          <p:nvPr/>
        </p:nvPicPr>
        <p:blipFill>
          <a:blip r:embed="rId1"/>
          <a:stretch/>
        </p:blipFill>
        <p:spPr>
          <a:xfrm>
            <a:off x="1600200" y="3849840"/>
            <a:ext cx="50292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Medi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ftware für Digital Asset Managem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iView MediaPro (übernommen 200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Noch keine CT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5" descr="EffortlessOrganization_450x253"/>
          <p:cNvPicPr/>
          <p:nvPr/>
        </p:nvPicPr>
        <p:blipFill>
          <a:blip r:embed="rId1"/>
          <a:stretch/>
        </p:blipFill>
        <p:spPr>
          <a:xfrm>
            <a:off x="1371600" y="344016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seewindowsvista.com/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blogs.msdn.com/davbosch/archive/2007/02/14/nice-list-of-demo-able-wpf-applications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 / Disku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0440" y="1540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Windows Vist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as größte je dagewesene Windows-Releas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187440" y="32623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63240" y="1960560"/>
            <a:ext cx="2582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5640" y="3162240"/>
            <a:ext cx="265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87480" y="2854440"/>
            <a:ext cx="246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29160" y="593100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630880" y="4119480"/>
            <a:ext cx="338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15040" y="3341520"/>
            <a:ext cx="1587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33880" y="5411880"/>
            <a:ext cx="186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050200" y="3602160"/>
            <a:ext cx="198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918920" y="3693960"/>
            <a:ext cx="107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7405560" y="1830240"/>
            <a:ext cx="171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7469640" y="2595600"/>
            <a:ext cx="174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678560" y="1890720"/>
            <a:ext cx="265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658760" y="4627440"/>
            <a:ext cx="25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5181120" y="3097080"/>
            <a:ext cx="326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75760" y="2529000"/>
            <a:ext cx="181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5230800" y="3627360"/>
            <a:ext cx="266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504600" y="1752480"/>
            <a:ext cx="123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018240" y="1544760"/>
            <a:ext cx="60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200320" y="2550960"/>
            <a:ext cx="211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27960" y="3994200"/>
            <a:ext cx="138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57000" y="1617840"/>
            <a:ext cx="23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-70200" y="2220840"/>
            <a:ext cx="249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990480" y="3395520"/>
            <a:ext cx="134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392360" y="2511360"/>
            <a:ext cx="248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2972520" y="4386240"/>
            <a:ext cx="283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8259840" y="297180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626920" y="2916360"/>
            <a:ext cx="148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224880" y="6126120"/>
            <a:ext cx="312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045400" y="3916440"/>
            <a:ext cx="295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03440" y="2351160"/>
            <a:ext cx="140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105120" y="6515280"/>
            <a:ext cx="250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6047280" y="1620720"/>
            <a:ext cx="168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5798520" y="42386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1926720" y="339876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2845800" y="470844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7051680" y="4681440"/>
            <a:ext cx="214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6426360" y="5821200"/>
            <a:ext cx="245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413280" y="5956200"/>
            <a:ext cx="2897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4164480" y="14940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3792600" y="5583240"/>
            <a:ext cx="96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2976480" y="3843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6746760" y="5580000"/>
            <a:ext cx="141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5936400" y="5165640"/>
            <a:ext cx="73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6825600" y="6081840"/>
            <a:ext cx="146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9"/>
          <p:cNvSpPr/>
          <p:nvPr/>
        </p:nvSpPr>
        <p:spPr>
          <a:xfrm>
            <a:off x="1036080" y="4500720"/>
            <a:ext cx="19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8370000" y="3311640"/>
            <a:ext cx="57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1"/>
          <p:cNvSpPr/>
          <p:nvPr/>
        </p:nvSpPr>
        <p:spPr>
          <a:xfrm>
            <a:off x="3671280" y="588636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2"/>
          <p:cNvSpPr/>
          <p:nvPr/>
        </p:nvSpPr>
        <p:spPr>
          <a:xfrm>
            <a:off x="7190280" y="4437000"/>
            <a:ext cx="148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egoe Semibold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3"/>
          <p:cNvSpPr/>
          <p:nvPr/>
        </p:nvSpPr>
        <p:spPr>
          <a:xfrm>
            <a:off x="6709320" y="2119320"/>
            <a:ext cx="12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4"/>
          <p:cNvSpPr/>
          <p:nvPr/>
        </p:nvSpPr>
        <p:spPr>
          <a:xfrm>
            <a:off x="7893720" y="4071960"/>
            <a:ext cx="126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5"/>
          <p:cNvSpPr/>
          <p:nvPr/>
        </p:nvSpPr>
        <p:spPr>
          <a:xfrm>
            <a:off x="-108720" y="5492880"/>
            <a:ext cx="272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6"/>
          <p:cNvSpPr/>
          <p:nvPr/>
        </p:nvSpPr>
        <p:spPr>
          <a:xfrm>
            <a:off x="6990120" y="6392880"/>
            <a:ext cx="205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7"/>
          <p:cNvSpPr/>
          <p:nvPr/>
        </p:nvSpPr>
        <p:spPr>
          <a:xfrm>
            <a:off x="2395440" y="2316240"/>
            <a:ext cx="150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3352320" y="5040360"/>
            <a:ext cx="262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222480" y="4761000"/>
            <a:ext cx="280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325160" y="5711760"/>
            <a:ext cx="230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1"/>
          <p:cNvSpPr/>
          <p:nvPr/>
        </p:nvSpPr>
        <p:spPr>
          <a:xfrm>
            <a:off x="-32040" y="3513240"/>
            <a:ext cx="213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"/>
          <p:cNvSpPr/>
          <p:nvPr/>
        </p:nvSpPr>
        <p:spPr>
          <a:xfrm>
            <a:off x="365760" y="4264200"/>
            <a:ext cx="241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3"/>
          <p:cNvSpPr/>
          <p:nvPr/>
        </p:nvSpPr>
        <p:spPr>
          <a:xfrm>
            <a:off x="4961160" y="2798640"/>
            <a:ext cx="3530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4"/>
          <p:cNvSpPr/>
          <p:nvPr/>
        </p:nvSpPr>
        <p:spPr>
          <a:xfrm>
            <a:off x="3618000" y="2168640"/>
            <a:ext cx="326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5"/>
          <p:cNvSpPr/>
          <p:nvPr/>
        </p:nvSpPr>
        <p:spPr>
          <a:xfrm>
            <a:off x="2222280" y="3898800"/>
            <a:ext cx="65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2556720" y="5308560"/>
            <a:ext cx="264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7"/>
          <p:cNvSpPr/>
          <p:nvPr/>
        </p:nvSpPr>
        <p:spPr>
          <a:xfrm>
            <a:off x="53640" y="6208560"/>
            <a:ext cx="232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8"/>
          <p:cNvSpPr/>
          <p:nvPr/>
        </p:nvSpPr>
        <p:spPr>
          <a:xfrm>
            <a:off x="5758200" y="4919760"/>
            <a:ext cx="296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9"/>
          <p:cNvSpPr/>
          <p:nvPr/>
        </p:nvSpPr>
        <p:spPr>
          <a:xfrm>
            <a:off x="403560" y="5211720"/>
            <a:ext cx="209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217800" y="1905120"/>
            <a:ext cx="117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owerSh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7836480" y="5361120"/>
            <a:ext cx="132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1231200" y="4941720"/>
            <a:ext cx="22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3"/>
          <p:cNvSpPr/>
          <p:nvPr/>
        </p:nvSpPr>
        <p:spPr>
          <a:xfrm>
            <a:off x="4772520" y="5668920"/>
            <a:ext cx="186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4"/>
          <p:cNvSpPr/>
          <p:nvPr/>
        </p:nvSpPr>
        <p:spPr>
          <a:xfrm>
            <a:off x="-21240" y="3757680"/>
            <a:ext cx="23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6905880" y="514512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Form 954370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113200" cy="9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8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4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2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4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2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6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2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8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4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8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4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8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2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4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6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8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4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braucht der Entwickl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vice Pack 1 mit Vista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MSDN Hilfe von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6.0 SDK (DVD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die Hilfe zu WPF, WF, W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rcas Tools für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vember 2006 CTP (kein weiteres C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ist bereits enthalten (nur einschal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ch keine .NET Kapselung für Vist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[DllImport] selber mac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 nur in Vista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Klassen erst mit 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Vista User Interfa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ue Common Controls (comctl32.dll 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mand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sk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ramework für Wi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Bridge” leider (noch) nicht brauch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eue Comm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„Gadg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ML und Jave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Windows Vista Desktop with Windows Sidebar and gadgets"/>
          <p:cNvPicPr/>
          <p:nvPr/>
        </p:nvPicPr>
        <p:blipFill>
          <a:blip r:embed="rId1"/>
          <a:stretch/>
        </p:blipFill>
        <p:spPr>
          <a:xfrm>
            <a:off x="1523880" y="2895480"/>
            <a:ext cx="58294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land Weigelt</cp:lastModifiedBy>
  <dcterms:modified xsi:type="dcterms:W3CDTF">2007-03-01T21:12:0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