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391C-2A0A-4DCD-9A65-A693073D3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AFF6-632E-443D-838E-EFC895D50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F918-B311-4B8B-B3DC-02CC758D4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769E-D31B-4882-97FE-207AB4429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B0EB-0478-4077-9BF3-047E13F17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246E-D466-4E37-A711-D98E5D0CF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2598-1CC8-47FA-AB4B-52D1960B9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5687-7C8C-40F1-AE22-D701E0699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9598-8DC3-499F-9757-CB5CC556A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C24F-FEB0-460C-8986-E0C18413E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3985-F66C-467A-B057-9CDB12607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5BE2-1677-42F1-8866-B778469C7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DA62-4F35-4D97-B6A0-24F10E4F2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7A58-4C7E-4269-B7DD-6BDDD508A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554F9-DF53-4D63-9035-2D6049B54A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B3421-3E9E-43BB-AF7E-412FCF7F21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071F2-DFA2-4CB6-8560-5E4D802BDE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4F35E-BA2E-4E01-8D79-C99735A17C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1DFD8-7A64-4C5E-AD0B-0783F06E88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628EC-DD0F-4DB0-8F9C-340386CCF2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93675-984E-41EC-8BAA-B12AA75CF2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E7C99-BB39-41D7-B27A-E037F38B86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21EA2-8B0B-413F-B3B7-67C3ADC7A9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7BE60-77BB-43D3-A1FC-7ADEBD9AF6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84501-7926-4585-94A5-06BB9EB22D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1780C-D2BA-4038-A215-DDC98C3636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BBD1-F0D1-408F-A227-A42D81C25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1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erhard.Schlemm@comma-soft.com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crosoft.com/technet/scriptcenter/hubs/msh.mspx" TargetMode="External"/><Relationship Id="rId2" Type="http://schemas.openxmlformats.org/officeDocument/2006/relationships/hyperlink" Target="http://www.microsoft.com/downloads/details.aspx?FamilyID=B4720B00-9A66-430F-BD56-EC48BFCA154F&amp;displaylang=en" TargetMode="External"/><Relationship Id="rId3" Type="http://schemas.openxmlformats.org/officeDocument/2006/relationships/hyperlink" Target="http://msdn2.microsoft.com/en-us/library/bb246658.aspx" TargetMode="External"/><Relationship Id="rId4" Type="http://schemas.openxmlformats.org/officeDocument/2006/relationships/hyperlink" Target="http://thepowershellguy.com/blogs/posh/archive/2007/01/13/powershell-projects-on-codeplex.aspx" TargetMode="External"/><Relationship Id="rId5" Type="http://schemas.openxmlformats.org/officeDocument/2006/relationships/hyperlink" Target="http://www.codeplex.com/PSSharePoint" TargetMode="Externa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1642680"/>
            <a:ext cx="8713800" cy="216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9200"/>
                </a:solidFill>
                <a:latin typeface="Verdana"/>
              </a:rPr>
              <a:t>Scripting for the .NET generation</a:t>
            </a:r>
            <a:br>
              <a:rPr sz="2400"/>
            </a:br>
            <a:br>
              <a:rPr sz="3600"/>
            </a:br>
            <a:r>
              <a:rPr b="1" lang="de-DE" sz="4000" spc="-1" strike="noStrike">
                <a:solidFill>
                  <a:srgbClr val="f69200"/>
                </a:solidFill>
                <a:latin typeface="Verdana"/>
              </a:rPr>
              <a:t>Windows PowerShell</a:t>
            </a:r>
            <a:endParaRPr b="1" lang="en-US" sz="40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562640"/>
            <a:ext cx="6400800" cy="13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6.01.2007 –  Gerhard Schlemm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5951520"/>
            <a:ext cx="500076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Gerhard.Schlemm@comma-sof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ritisch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Run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Lange Startup-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erformance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keine Mess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ost-Kons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"Toleranz" bezüglich Parametern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abComp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erfügbarkei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indows XP, Windows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iehe Windows PowerShell Script Center-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icht mit Windows V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elease-Zyklen wurden entkopp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ird nachgereic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ird demnächst mit  diversen Microsoft-Produkten ausgeliefe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xchange Serve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ystem Center VM Manager, Operations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Fazi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Gut durchdacht, "moderne" Fortentwicklung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er Shell in einer objektorientierten W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eckt Anwendungsfä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ür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dministrato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ür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ntwickle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und ist damit gut geeignet, auf Shell-Ebene Software-Produkte zu unterstüt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Grafik 3" descr="Architektur.gif"/>
          <p:cNvPicPr/>
          <p:nvPr/>
        </p:nvPicPr>
        <p:blipFill>
          <a:blip r:embed="rId1"/>
          <a:stretch/>
        </p:blipFill>
        <p:spPr>
          <a:xfrm>
            <a:off x="928800" y="1576440"/>
            <a:ext cx="7500960" cy="4618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Übersich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Links (1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indows PowerShell Script Center</a:t>
            </a:r>
            <a:br>
              <a:rPr sz="2400"/>
            </a:br>
            <a:r>
              <a:rPr b="0" lang="de-DE" sz="16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microsoft.com/technet/scriptcenter/hubs/msh.mspx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owerShell Documentation Pack </a:t>
            </a:r>
            <a:r>
              <a:rPr b="0" lang="de-DE" sz="16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www.microsoft.com/downloads/details.aspx?FamilyID=B4720B00-9A66-430F-BD56-EC48BFCA154F&amp;displaylang=e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SDN</a:t>
            </a:r>
            <a:br>
              <a:rPr sz="2400"/>
            </a:br>
            <a:r>
              <a:rPr b="0" lang="de-DE" sz="16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http://msdn2.microsoft.com/en-us/library/bb246658.aspx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owerShell bei CodePlex</a:t>
            </a:r>
            <a:br>
              <a:rPr sz="2400"/>
            </a:br>
            <a:r>
              <a:rPr b="0" lang="de-DE" sz="18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http://thepowershellguy.com/blogs/posh/archive/2007/01/13/powershell-projects-on-codeplex.aspx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SharePoint 2003:</a:t>
            </a:r>
            <a:br>
              <a:rPr sz="1800"/>
            </a:br>
            <a:r>
              <a:rPr b="0" lang="de-DE" sz="1800" spc="-1" strike="noStrike" u="sng">
                <a:solidFill>
                  <a:srgbClr val="009999"/>
                </a:solidFill>
                <a:uFillTx/>
                <a:latin typeface="Tahoma"/>
                <a:hlinkClick r:id="rId5"/>
              </a:rPr>
              <a:t>http://www.codeplex.com/PSSharePoin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PowerShell Community Extensions: http://www.codeplex.com/PowerShellCX/Release/ProjectReleases.aspx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Links (2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indows SDK</a:t>
            </a:r>
            <a:br>
              <a:rPr sz="2400"/>
            </a:b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http://www.microsoft.com/downloads/details.aspx?FamilyId=C2B1E300-F358-4523-B479-F53D234CDCCF&amp;displaylang=en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Etliche Samples in Samples\SysMgmt\WindowsPowerSh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isual Studio Project Template</a:t>
            </a:r>
            <a:br>
              <a:rPr sz="2400"/>
            </a:b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http://channel9.msdn.com/ShowPost.aspx?PostID=256835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logs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http://blogs.msdn.com/powershell/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http://thepowershellguy.com/blogs/posh/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3000240"/>
            <a:ext cx="822960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Fragen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as ist PowerShell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levator Pitch: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"Scripting for the .NET Generation"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ieht zunächst wie eine normale Shell aus,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st aber konsequent auf .NET 2.0 basier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cripting findet stets auf echten .NET-Objekten statt - der Umgang mit diesen Objekten steht dem in kompilierten Code kaum n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ollte etwas wie ein Text aussehen: Es ist ein Objekt vom Typ </a:t>
            </a: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System.String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auf dem alle Methoden und Eigenschaften zur Verfügung ste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Grafik 3" descr="picture_2_9.png"/>
          <p:cNvPicPr/>
          <p:nvPr/>
        </p:nvPicPr>
        <p:blipFill>
          <a:blip r:embed="rId1"/>
          <a:stretch/>
        </p:blipFill>
        <p:spPr>
          <a:xfrm>
            <a:off x="7151760" y="1488960"/>
            <a:ext cx="113652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ernfeatures (I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ipelining von .NET Objek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hells aus der Unix-Welt nehmen Pipelining auf Basis von Texten vor, wodurch "externe" Tools wie </a:t>
            </a: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SED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AWK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etc. entstand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owerShell verbindet dieses Pipeline-Prinzip mit objektorientierter Entwick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m Lieferumfang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mfangreicher Satz von Befehlen (Cmdlets), die Pipelining unterstüz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ernfeatures (II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ch das ist notwendig: PowerShel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ächtig im Umf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beiten mit Funktionen und Variab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racing und Debugging mögl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akt in 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lativ schlecht erlern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erfür gibt es Anwendungsfälle, als Entwickler möchte ich für mein Produkt (Administration, Verwendung) jedoch keine Skripte entwickeln, sonder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ompon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ernfeatures (III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md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 .NET-Komponenten gegossene Befehle,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e Pipelining unterstüt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onsistente Benen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men von Cmdlets folgen Verb-Noun Prin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men von häufigen Parametern standardisie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36560" indent="-264960">
              <a:lnSpc>
                <a:spcPct val="100000"/>
              </a:lnSpc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Verbose , Debug, ErrorAction, ErrorVariable, OutVariable, OutBuffer,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hatIf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 Confi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365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he 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get-help about_commonpara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hen auch in der PowerShell Language ber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icht erlernba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ernfeatures (IV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ktion des Zugriffs auf hierarchische Datenspei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nheitlicher Zugriff auf diese Daten üb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tgelieferte Cmdlets (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Get-ChildIt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ngebaut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77560">
              <a:lnSpc>
                <a:spcPct val="10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eisystem (File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77560">
              <a:lnSpc>
                <a:spcPct val="10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istry (Regist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77560">
              <a:lnSpc>
                <a:spcPct val="10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Lokale) Zertifikate (Ce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77560">
              <a:lnSpc>
                <a:spcPct val="10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werShell-interne Provider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as, Environment, Function,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ernfeatures (V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Zusammenspiel Cmdlet-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mdlets können Provider-Abstraktion verwenden,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m auf Daten zuzugrei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infache Erweiterbar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ntwicklung eigener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mdlet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sehr einf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ntwicklung eigener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vide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einf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.. und natürlich auch durch Definition von Funktionen mit der PowerShel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ernfeatures (VI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rchitektur: Runtime und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urch saubere Trennung von Runtime und Host ist PowerShell nicht nur eine Konsole, sondern kann innerhalb anderer Anwendungen eingesetz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npassbar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lias-Konzept für "gewohnte" Befehls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 Ausgabeform (Tabelle, Liste, ...) können anzuzeigenden Eigenschaften ausgewählt und auch Werteformatierung eingestell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oreinstellung per Konfigurationsdat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ernfeatures (VII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icherheitskonz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ilfe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ilfe für Komponenten (Cmdlets und Provider) werden im MAML-Format ausgeliefert und/oder im Code annot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ost-Kons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npassbar (Titel, Prompt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"Toleranz" bezüglich Parametern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abExpansion für Provider-Pfade, Cmdlets (ab "-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</dc:creator>
  <dc:description/>
  <dc:language>en-US</dc:language>
  <cp:lastModifiedBy>Schlemm, Gerhard</cp:lastModifiedBy>
  <dcterms:modified xsi:type="dcterms:W3CDTF">2007-01-23T08:57:10Z</dcterms:modified>
  <cp:revision>589</cp:revision>
  <dc:subject/>
  <dc:title>Slide 1</dc:title>
</cp:coreProperties>
</file>