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6B1-5AB4-4DC1-B97B-FDC77B3C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803-8FFD-408A-8448-9D942B5B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86E-E3AF-4075-88FE-61CC605C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9F3D-D6C4-41F2-854E-085FA56F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BF11-BABD-422F-8F72-F595B16A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6237-C347-4996-A780-7469B2B6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13CA-9DB9-415A-B89E-3F138F2A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8C34-86B3-42AC-8BC2-C98923F5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4BCC-D084-43CB-80EF-2F867275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07A7-6C81-4E52-8462-AA406DBD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1FC6-310C-446C-BC8D-8E93EAC5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CE1-8923-4C03-98F9-B1255B14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A912-3184-4D10-8236-2FAB5436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3A02-9331-46E2-A31E-FA63BDE5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1AA9-29E3-43B2-B670-6532BDE1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26FC-63E8-47B3-A794-FD793DDF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9192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7436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4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9192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7436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F040-1DD6-486D-9452-3125ADF4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A1C-642F-4E5E-943B-D97848E7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A06-2683-4C8E-8D97-8D2AF60A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0E4-AFE7-46D0-BB3C-AF8276D4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ED2-8CEA-4FBD-B4C8-F56E658C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BB2-5FB0-4D86-9314-87F33D72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652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074-EBD6-48B1-9256-8BFEB1DE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652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E3C-C2D7-47A1-B30B-1CBA6CCE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6565-61C3-4930-A66A-86A393E6A39F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4628-F3BD-43BB-A330-D0563C087A94}" type="slidenum">
              <a:rPr b="0" lang="de-DE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efan@lieser-online.de" TargetMode="External"/><Relationship Id="rId2" Type="http://schemas.openxmlformats.org/officeDocument/2006/relationships/hyperlink" Target="mailto:stefan@lieser-online.de" TargetMode="External"/><Relationship Id="rId3" Type="http://schemas.openxmlformats.org/officeDocument/2006/relationships/hyperlink" Target="mailto:stefan@lieser-online.de" TargetMode="External"/><Relationship Id="rId4" Type="http://schemas.openxmlformats.org/officeDocument/2006/relationships/hyperlink" Target="mailto:stefan@lieser-online.de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JetBrains ReSharper 2.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40458c"/>
                </a:solidFill>
                <a:latin typeface="Tahoma"/>
              </a:rPr>
              <a:t>Stefan Liese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Email: 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tefan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@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lieser</a:t>
            </a:r>
            <a:r>
              <a:rPr b="0" lang="de-DE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-online.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Web: www.lieser-online.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resharper" descr=""/>
          <p:cNvPicPr/>
          <p:nvPr/>
        </p:nvPicPr>
        <p:blipFill>
          <a:blip r:embed="rId5"/>
          <a:stretch/>
        </p:blipFill>
        <p:spPr>
          <a:xfrm>
            <a:off x="990720" y="914400"/>
            <a:ext cx="2457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Unit Tes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it Test Runn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Einzelnen T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estFixture Klas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le Tests eines Projek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le Tests einer Solu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ests werden am linken Rand markiert und können von dort gestartet werde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ests können im Debugger gestartet werde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JetBrains dotTrace Profiler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SP.NET Unterstützu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Alle Features funktionieren auch in „ASP.NET Dateien“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MSBuild / NAnt Unterstützu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rror highligh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de comple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Quick fix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name Refact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Navigation and Sear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ile structure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rror Highlighting und Quick-Fix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dvanced Coding Assist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Refactor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Navigation und Such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it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SP.NET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MSBuild / NAnt Unterstützu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rweiterbar durch Open API (Plugin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660066"/>
                </a:solidFill>
                <a:latin typeface="Tahoma"/>
              </a:rPr>
              <a:t>Error Highlighting und Quick-Fix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On-the-fly error check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Warnung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Dead 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Überflüssige using Anweisung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Überflüssige overri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Quick fix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Alt-En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tatus Indic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Navigation in Fehlern und Warnung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F12 / Shift-F1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uto Insertion fehlender </a:t>
            </a:r>
            <a:r>
              <a:rPr b="0" lang="de-DE" sz="2800" spc="-1" strike="noStrike">
                <a:solidFill>
                  <a:srgbClr val="40458c"/>
                </a:solidFill>
                <a:latin typeface="Courier New"/>
              </a:rPr>
              <a:t>using</a:t>
            </a: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 Direktiv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dvanced Coding Assista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de comple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Live-Search beim Tipp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Klammern für Methodenaufruf werden ergänz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ezeichner werden automatisch gebild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text Ac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Use string.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Convert 'If' to conditio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Quick Documentation Look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rameter Inf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Bracket Match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Auto Insertion von Klammern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Advanced Coding Assista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de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str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roper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Implement interface memb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Override inherited memb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Delegating memb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Equals und GetHashCo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Live Templa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format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Refactorin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Rename (F2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ncapsulate Fiel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Meth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ove Ty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o outer sco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To another ty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py Ty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Pull members up, Push members dow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Refactorin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hange method signa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Introduce Variable/Parameter/Fiel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Interface/Super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Extract class from method paramet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ake method stat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ove static memb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Method to Property/Property to Method(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Convert abstract class to interf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Navigation und Such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Go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ype (Ctrl-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File (Ctrl-Shift-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Declaration (Ctrl-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Type declaration (Ctrl-Shift-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Base (Ctrl-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Inheritor (Ctrl-Alt-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58c"/>
                </a:solidFill>
                <a:latin typeface="Tahoma"/>
              </a:rPr>
              <a:t>Usage (Ctrl-Alt-F7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Highlight Usage (Ctrl-Shift-F7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how Class Members (Ctrl-F12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Navigation und Such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Stack Trace Explorer (Ctrl-Shift-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Stack Trace aus der Zwischenabl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Filepositionen über Links navigierb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File Structure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Ideal zum Umordnen innerhalb einer Klas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Unterstützt #reg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Type Hierarchy 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efan Lieser</cp:lastModifiedBy>
  <dcterms:modified xsi:type="dcterms:W3CDTF">2006-09-12T13:50:34Z</dcterms:modified>
  <cp:revision>29</cp:revision>
  <dc:subject/>
  <dc:title>PowerPoint Presentation</dc:title>
</cp:coreProperties>
</file>