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0313-F307-4BAB-B330-C5D54FBB8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paar Worte vorw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r Vortrag ist im Rahmen einer Evaluierung entstanden und stützt sich nicht auf intensive Praxiserfah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e Punkte wurde nur der Vollständigkeit halber aus der Doku aufgen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DA84-2B76-4B45-9D73-674BCFBC0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2581-F6A8-4CCE-A221-FE4D23CB1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FED4-54AC-47C2-9218-182D31AD5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B570-B6D9-45C3-88B3-A21528E8E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FA6D-2A63-4B03-9E93-D1404FDA7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9625-DF6A-4DAD-9F1D-3AFEDF7E8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66A4-A964-45E5-BA7F-C0395E2C3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A858-C915-4801-A442-B03ED9AF3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4BFD-4205-4B8D-B6F1-17385350C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C894-C00D-4DCB-B454-37E279609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2851-01EA-459A-89C1-A1B5CB9C7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A178-96BF-4223-AE76-C51372395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2917-4F0B-4B33-9ABA-4BA276ACB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racle.com/technology/pub/articles/mastering_dotnet_oracle/williams_sps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31102.aspx" TargetMode="External"/><Relationship Id="rId2" Type="http://schemas.openxmlformats.org/officeDocument/2006/relationships/hyperlink" Target="http://msdn2.microsoft.com/en-us/library/ms131102.aspx" TargetMode="External"/><Relationship Id="rId3" Type="http://schemas.openxmlformats.org/officeDocument/2006/relationships/hyperlink" Target="http://msdn2.microsoft.com/en-us/library/ms131102.aspx" TargetMode="External"/><Relationship Id="rId4" Type="http://schemas.openxmlformats.org/officeDocument/2006/relationships/hyperlink" Target="http://msdn.microsoft.com/sql/learning/prog/clr/default.aspx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R Integration im 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SQL Server 2005 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2.09.2006 –  Sascha Lehma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ascha.Lehmann@comma-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cherheitsmodel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enbankoptio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ermis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cherheitsmodel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 allem wacht die Code Access Secur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ben Machine- und User Policy nun auch noch Host Policy je Assembly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ies können in drei Modellen registr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ur interne Berechnungen, Zugriff auf lokale Da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ein State, keine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static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TERNAL_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externe Ressourcen wie Dateien, Registry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unmanaged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ploym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LR Integration muss explizit pro Server Instanz aktiv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sp_configure 'clr enabled', 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econfigur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 Assemblies können vom Client aus im Server installiert werd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REATE ASSEMBLY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aussetzung für Assemblies mit Permission Set EXTERNAL_ACCESS bzw. UNSAF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wner benötigt External / Unsafe Assembly Permis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ahoma"/>
              </a:rPr>
              <a:t>ALTER DATABASE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sz="1400" spc="-1" strike="noStrike">
                <a:solidFill>
                  <a:srgbClr val="000000"/>
                </a:solidFill>
                <a:latin typeface="Tahoma"/>
              </a:rPr>
              <a:t> SET TRUSTWORTHY ON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de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rrelation zwischen SQL Server Integration und den in .NET 2.0 hinzugekommenen Hosting AP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Oracl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und DB/2 bieten ebenfalls CLR Integ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SQL Server 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Books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MSDN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heißt CLR Integratio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nutzerdefinierter Code kann nun i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Managed Co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t werde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s umfasst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ored Procedur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igger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Datentyp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Funktionen (skalar und tabellenwerti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Aggregationsfunk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orte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teile von managed Code gegenüber T-SQL bzw. Extended Stored Procedure in native C(++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Programmierspr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Entwicklungsumgeb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ilweise deutlich besser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chere Laufzeitumgebung (Sandbo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öglichkeit Aggregationsfunktionen zu definie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1: Modulo2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den Rest einer Division durch 2 berechne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turn (i % 2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 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elect * from Numbers where dbo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dulo2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d) = 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 Demo 1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ype „Database/SQL Server Project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d User-Defined Fun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pl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# Syntax für UDF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einen kommaseparierten String in eine Tabelle zerleg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ring.Split(','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lect * From SplitCSString('A;B;C;D') lief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56720" y="3141720"/>
            <a:ext cx="8190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ble Valued Function (TVF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blematik Datentyp tex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aAccessKind.Rea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ntext-Conn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 UDF bisher leider nicht innerhalb der FillRow-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erformanc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 einem 3 GHz Rechner wurden folgende Werte gemess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verhead pro Aufruf (Modulo2) &lt; 1 µ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litCSString gegen T-SQL Variante 200 ms statt 18 sec bei 120k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s Event-Log des lokalen Rechners als Tabelle ausgeben. (Bsp. aus SQL Books On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Sascha Lehmann</cp:lastModifiedBy>
  <dcterms:modified xsi:type="dcterms:W3CDTF">2006-09-11T19:44:19Z</dcterms:modified>
  <cp:revision>238</cp:revision>
  <dc:subject/>
  <dc:title>Slide 1</dc:title>
</cp:coreProperties>
</file>