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BD3D-AAD8-4DEF-88E1-C8DFFA87C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B8E7-1AB6-46BD-AC7E-417BA80EC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73BB-66C3-408A-B3B4-759DF0F15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A7D2-FB85-4B59-B5B8-C42C71901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A572-F904-440B-84E2-CD2C224D8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7C71-E6F2-4BD8-B7AB-57E50FA03C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326F-7F83-4C14-8BA9-DCB115F0C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17B9-46A1-40D3-8F99-5D99AFFA2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BB53-0D40-4392-837B-E72A376EA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483DB-05B3-4F9B-A7C3-110113E13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34E6-557C-410B-8055-9139CA0D7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EBE7-5416-4336-8816-7981A98C9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B588-96E2-4DC2-977C-0D597BFC5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Quicktipp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- / 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9.08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reak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tzen und Entfer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etzen/Entfernen via F9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a Breakpoint Window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(Alt + F9 oder Menü "Debug\Windows\Breakpoints" 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lick auf den "Punkt" bzw. graue Leiste am linken Rand des Sourcecod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en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Kontextmenü auf "Punkt" in grauer Leist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swählen des Breakpoints im Breakpoint Window + Kontextmen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ögliche Anpass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lnSpc>
                <a:spcPct val="90000"/>
              </a:lnSpc>
              <a:spcBef>
                <a:spcPts val="2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Bedingung </a:t>
            </a:r>
            <a:r>
              <a:rPr b="1" lang="de-DE" sz="1000" spc="-1" strike="noStrike">
                <a:solidFill>
                  <a:srgbClr val="000000"/>
                </a:solidFill>
                <a:latin typeface="Tahoma"/>
              </a:rPr>
              <a:t>(nicht in Express-Editionen)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erfüllt sei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dingung, die sich ändern muss, damit der Debugger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it Cou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m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= einem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ein vielfaches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enn der Hitcount &gt;= eines bestimmten Wert 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il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s kann ein Filter spezifiziert werden, der beschreibt wann der Breakpoint anschlagen soll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ierfür stehen u.a. virtuelle Variablen für ProcessId, ProcessName, ThreadId, ThreadName und MachineNam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.h. man kann einen Breakpoint einrichten, der nur in einem Thread zuschläg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racepoin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In den Breakpoint - Eigenschaften "When Breakpoint Is Hit"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gendes kann eingestellt werden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"Print a message" = Tracepoi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an kann Variablen, Ausdrücke und spezielle virtuelle Variablen</a:t>
            </a:r>
            <a:br>
              <a:rPr sz="20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$FUNCTION, $CALLER, $CALLSTACK, Process/Thread-ID's und –Na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uf der Standardausgabe (TRACE) ausgeben lassen ohne den Code zu modifiziere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Run a macro"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kann ein bel. Macro ausgeführt wer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Continue executio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51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Es wird nicht angehalten, sondern weiter ausgefüh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8-19T06:45:05Z</dcterms:modified>
  <cp:revision>252</cp:revision>
  <dc:subject/>
  <dc:title>Einführung in MS Build</dc:title>
</cp:coreProperties>
</file>