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DFBF-8264-4F16-AF0C-A8D8E8D5E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070B-703B-4855-B69A-30B76FD92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1B0F-4171-483F-89EF-03F4FEA9D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CF86-0285-4519-81EE-6077EB077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5BF9-3B2A-4057-95BC-CA1F395DA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5577-890F-43CC-9243-4C2892044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084C-081A-49D6-BD9C-4F6568A58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03C1-2EF7-4182-8998-4E4B233D0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268F-4F95-4CB2-85C5-EEA0A9DF3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BEB3-D389-49F4-9EE0-6D25750EC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03ED-AD29-4DC8-9E03-3089924B0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A56E-2C3F-4608-BAEE-59A99E7D5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1E5-FD23-4502-A170-8DD7966B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tdotnet.com/workspaces/workspace.aspx?id=6b1aceda-e613-4dac-beeb-0cd8ad8f2d41" TargetMode="External"/><Relationship Id="rId2" Type="http://schemas.openxmlformats.org/officeDocument/2006/relationships/hyperlink" Target="http://www.gotdotnet.com/workspaces/workspace.aspx?id=6b1aceda-e613-4dac-beeb-0cd8ad8f2d41" TargetMode="External"/><Relationship Id="rId3" Type="http://schemas.openxmlformats.org/officeDocument/2006/relationships/hyperlink" Target="http://www.gotdotnet.com/workspaces/workspace.aspx?id=6b1aceda-e613-4dac-beeb-0cd8ad8f2d41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2.8.2006 –  Roland Weig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uelle Installation: ZIP-Datei kop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reckt aber sicherlich bestimmte Anwender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teil für Profis: Erster Blick in das Template (und seine Qualität) ohne Installation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stallation über V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SI: (umbenanntes) ZIP, enthält Template sowie XML für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rnung, wenn nicht sig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Content Installer Power To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2"/>
              </a:rPr>
              <a:t>www.gotdotnet.com/workspaces/workspace.aspx?i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3"/>
              </a:rPr>
              <a:t>=6b1aceda-e613-4dac-beeb-0cd8ad8f2d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wer Toy nicht 100%ig überzeugend, aber ok für Einsti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My Documents" ist im Setup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Möglichk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liche MSI-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er Code in Installer-K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r Blick in die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STemplate Version="2.0.0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="http://schemas.microsoft.com/developer/vstemplate/2005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="Item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faultName&gt;MyTemplate.cs&lt;/Default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Name&gt;MyTemplate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scription&gt;This is the description of the template&lt;/Descrip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Type&gt;CSharp&lt;/Project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SortOrder&gt;10&lt;/SortOrd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Icon&gt;__TemplateIcon.ico&lt;/Ic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References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Item SubType="Code" TargetFileName="$fileinputname$.cs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Parameters="true"&gt;DemoFile.cs&lt;/ProjectItem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VSTemplat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Dat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auptsächlich Infos für Auswahl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Assemblies werden benöti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spiel: TestFixture für N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Dateien werden hinzugefü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ProjectIte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einer einzelnen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eschreibung aller Tags in der MSDN Library unt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"Visual Studio Template Schema Referenc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Collections.Generic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Tex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rootnamespac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Initializes a new instance of the &lt;see cref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"/&gt; cla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muss explizit aktiv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ichwort "Template Parameter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1 (statisch): Custo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1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2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2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/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emplateCont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sfall: Ein Template in verschiedenen, leicht unterschiedlichen Vari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2 (dynamisch): Wiz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iesem Zusammenh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zard == C#-Klasse, die IWizard implement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Visual Studio über Automation (EnvDTE.DTE) möglich d.h. Zugriff auf Projekte, Settings, Dateien, etc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ch für "Wizards" ohne GUI interess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eigener 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zards für komplexere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 in IWizard für Item Templ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mentsDictionary enthäl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rsetz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91920" indent="-26064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z.B. Key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Value 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in RunStarted füllt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4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ue = Datei wird hinzugefü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 implementieren, Assembly sig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ipp: Bei komplexen Wizards ggf. mehrere Assemblies mit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ILMer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einer zusammenfassen (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eniger "Müll" im Verzeichn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tlich passender: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n Wizard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oder mehrere Date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n müssen in vstemplate-Datei angegeben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xtdateien auf Wunsch mit Text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etzung kann durch .NET-Code gesteuer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beit mit Visual Studio: Selten "Start bei Nu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ien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#-Kl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421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Project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5013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Item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liebige Dateien, nicht nur Quell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tei Icon1.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obe Vorlage in 32x32 und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nderbehandlung vo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etzung von Text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abhängig vom Datei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mehrere 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Window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ndowsForm1.cs, WindowsForm1.Designer.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Anm.: WindowsForm1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res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hört nicht zum Templ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s vollkommen Neues in Visual Studio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zept aus früheren Versionen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 nun deutlich einf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sprechend dem Microsoft-Trend: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für Metadaten (.vstemp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das eigentliche 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tional: Ic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zeige in Auswahldialog in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ch möglich: Referenz auf Icon in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m Inhalt der ZIP-Datei später mehr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P-Datei: Ablage in speziellem Ord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Sys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geliefert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Class.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\CSharp\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033: Englisches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Us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\Visual Studio 2005\Templates\ItemTemplates\Visual C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in Unter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 beachten bei Ablage in System-Ordner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nderungen nicht sofort wirks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 helfen: devenv.exe /installvs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teilte Meinungen, ob es funktio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fährlicher Tip: devenv.exe /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tzt auch andere Einstellungen zurü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te stets allerletztes Mittel s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vorher Backup der Settin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nicht unbedingt nötig: Finger w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lage lieber in User-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rvig: Unterordner wird per Default 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400" indent="-2581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rtOrder hat keinen Einfl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8-23T15:34:12Z</dcterms:modified>
  <cp:revision>311</cp:revision>
  <dc:subject/>
  <dc:title>Slide 1</dc:title>
</cp:coreProperties>
</file>