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4E75-9575-4FE7-B481-C00FB16B5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6CDD-BC3B-4B83-A259-DD52F9EBC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3DCF-4D40-47E5-BC2E-2BFB249D0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8FA0-3CC6-4218-A13D-222987E1A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EB3D-FAF2-4333-9599-C7FBDCC96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9BD8-1AC9-4856-A8BC-927E2B5C2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4FB5-103D-41D2-8A4D-F84F926C7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B817-759C-4452-BA0B-63DCF78F4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0865-5158-4B8E-AC56-E0DE1450B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1A75-01B0-42BD-A1FD-498A7EDC7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D926-CBAA-40B7-BA4C-B6CD653CE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69C4-BE36-449F-A703-04C0FB653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8384-D758-4E76-9991-22B6C7CC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tact@jens-schaller.de" TargetMode="External"/><Relationship Id="rId2" Type="http://schemas.openxmlformats.org/officeDocument/2006/relationships/hyperlink" Target="http://jens-schaller.de/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deproject.com/macro/collapseall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 Tip: „Collapse all“ Makr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contact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Größere Solutions werden im ausgeklappten Zustand schnell unübersichtli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628640"/>
          <a:ext cx="1739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1739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llapseAl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.B. Ctrl-ä -&gt; Col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„CollapseAll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tkeys bele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ownload: </a:t>
            </a:r>
            <a:r>
              <a:rPr b="1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odeproject.com/macro/collapseall.as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ens Schaller</cp:lastModifiedBy>
  <dcterms:modified xsi:type="dcterms:W3CDTF">2006-07-17T20:33:20Z</dcterms:modified>
  <cp:revision>221</cp:revision>
  <dc:subject/>
  <dc:title>Slide 1</dc:title>
</cp:coreProperties>
</file>