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31F-36B4-4E41-B7C2-0A8FF586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FA4-2DC8-4B00-978E-AA461D0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255-7C66-4F8C-A8C0-08EAF2DD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A67-2848-41E4-8ABA-066FD753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55B-ED0C-4C11-A5BE-A1482DF7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4DD-E7FD-4A49-A6FC-891C18FC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047-4B13-4F3F-B283-CB055DAB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B8E-9404-4232-8802-6573BB7D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00C-80B1-41D0-A4C9-69B105A5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154-0B57-4265-A946-1B67D63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7F9-AD4B-40F8-99D1-73AFFCF1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6DB-ECE3-4FF4-941A-0AB997AD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82AE-F6F6-41AC-9504-0AF458DB4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4"/>
                </a:solidFill>
                <a:latin typeface="Square721 BdEx BT"/>
              </a:rPr>
              <a:t>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4"/>
                </a:solidFill>
                <a:latin typeface="Square721 BdEx BT"/>
              </a:rPr>
              <a:t>APPLICATION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5984"/>
                </a:solidFill>
                <a:latin typeface="Square721 BdEx BT"/>
              </a:rPr>
              <a:t>MORITZ PFENN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984"/>
                </a:solidFill>
                <a:latin typeface="Square721 Ex BT"/>
              </a:rPr>
              <a:t>m.pfennig@futureproofed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MINI-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41708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Debuggen von Anwendungen &amp;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Warum debuggen?  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UserScoped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27280" y="3573360"/>
            <a:ext cx="3962520" cy="17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344000" cy="32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&amp; User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Bisherige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ehrfacher Einsatz innerhalb einer Ap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apselung &amp; eigene Wrapper-K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IPersistComponent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LoadComponentSettings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aveComponentSettings(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Application Settings &amp; User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gene 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orteil durch Erweit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ort, -medium &amp; einiges meh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Zuweisung per Attri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Klass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Settings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440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CustomSettings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734400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utzerdefinierte Ty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 PropertyGrid als guter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AUSBL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87280" y="2852640"/>
            <a:ext cx="569628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500720" y="4581360"/>
            <a:ext cx="3200400" cy="127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84"/>
                </a:solidFill>
                <a:latin typeface="Square721 BdEx BT"/>
              </a:rPr>
              <a:t>Anforder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nforderungen an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icherheitsrelevante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nwendung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Benutzer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84"/>
                </a:solidFill>
                <a:latin typeface="Square721 BdEx BT"/>
              </a:rPr>
              <a:t>.NET 1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6408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nstellungen speichern mit .NET 1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Dynamic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Regi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Eigenentwickelte Kompon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figuration Management Application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3649680"/>
            <a:ext cx="64087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Dynam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ögliche Ty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Read 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figur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Parsing, merging,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Programmier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6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in aller K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Einf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Typisi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Flex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Dynamic Properties unter .NET 2.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Weitere grundlegende Inform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Architektur ermöglicht klare Tren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quare721 BT"/>
              </a:rPr>
              <a:t>Persistenzmechani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DE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quare721 BT"/>
              </a:rPr>
              <a:t>VS 2005 &amp;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Einschränkungen der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isual Studio Add-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Microsoft Office Add-Ins &amp; Projekte (V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ontrols, gehostet im 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Speicherung sicherheitsrelevant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8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Application Settings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Auswertung zur Lauf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orgabe: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Häufig verwendeten 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efaultSetting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Brow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Displa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quare721 BT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984">
                  <a:alpha val="10196"/>
                </a:srgbClr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795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984"/>
                </a:solidFill>
                <a:latin typeface="Square721 BdEx BT"/>
              </a:rPr>
              <a:t>.NET 2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5984">
              <a:alpha val="60000"/>
            </a:srgbClr>
          </a:solidFill>
          <a:ln w="9360">
            <a:solidFill>
              <a:srgbClr val="005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69960"/>
            <a:ext cx="971640" cy="31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885080" y="6697800"/>
            <a:ext cx="1224000" cy="145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64087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Square721 BT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Warum valid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Vier Ereignis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S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Settings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Square721 BT"/>
              </a:rPr>
              <a:t>Property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5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quare721 BT"/>
              </a:rPr>
              <a:t>CancelEventA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4:11:52Z</dcterms:created>
  <dc:creator>Moritz Pfennig</dc:creator>
  <dc:description/>
  <dc:language>en-US</dc:language>
  <cp:lastModifiedBy>mo</cp:lastModifiedBy>
  <dcterms:modified xsi:type="dcterms:W3CDTF">2006-07-19T15:51:43Z</dcterms:modified>
  <cp:revision>78</cp:revision>
  <dc:subject/>
  <dc:title>Folie 1</dc:title>
</cp:coreProperties>
</file>