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92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58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594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3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3"/>
          </p:nvPr>
        </p:nvSpPr>
        <p:spPr>
          <a:xfrm>
            <a:off x="0" y="8685360"/>
            <a:ext cx="29592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5435F-057E-4087-9B1D-E9EDEA4A7B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590C-4452-4AEE-A6D9-6972A5A96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7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60240"/>
            <a:ext cx="8217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8F42-0B8E-4E69-B09B-239A0E56E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40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A41DE-5E2F-4973-828E-C0B2897A6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5320" y="162828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3440" y="162828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6024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5320" y="426024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3440" y="426024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2E6B-0850-4640-9492-A5CDFA4CC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628280"/>
            <a:ext cx="8217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70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90040"/>
            <a:ext cx="82170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28280"/>
            <a:ext cx="8217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58BC-B4E9-4FA7-B26D-09AF13135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740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260240"/>
            <a:ext cx="8217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7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260240"/>
            <a:ext cx="8217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740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5320" y="162828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3440" y="162828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26024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5320" y="426024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3440" y="426024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70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A83B-0922-44A2-9B59-7D3981E2E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FBA0-D9BF-404B-BADD-51469648B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AF96-BFFB-4FB4-9179-B2C84E57D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590040"/>
            <a:ext cx="82170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3B17C-610B-43C0-B45E-E6F3931B7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0616-C9EF-4621-B983-A9B102FEF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40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4D0D-D8C4-4061-99DB-6025BFBA3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60240"/>
            <a:ext cx="8217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CD65-B3B7-41C8-92AB-717101226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2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6840" y="1628280"/>
            <a:ext cx="82170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2360" indent="-2523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2360" indent="-25704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5560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667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66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66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20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FFFE0-C1FE-4725-8DB1-6C369F55F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2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214360"/>
            <a:ext cx="87012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7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2360" indent="-25704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5560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667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66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66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168280"/>
            <a:ext cx="87138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31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16.05.2006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31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Miroslaw Dobrzanski-Neuman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254240"/>
                <a:tab algn="l" pos="1887480"/>
                <a:tab algn="l" pos="2521080"/>
                <a:tab algn="l" pos="3154320"/>
                <a:tab algn="l" pos="3787920"/>
                <a:tab algn="l" pos="4421160"/>
                <a:tab algn="l" pos="5054760"/>
                <a:tab algn="l" pos="5688000"/>
                <a:tab algn="l" pos="6321600"/>
                <a:tab algn="l" pos="6954840"/>
                <a:tab algn="l" pos="7588080"/>
                <a:tab algn="l" pos="8229600"/>
                <a:tab algn="l" pos="8854920"/>
                <a:tab algn="l" pos="9488520"/>
                <a:tab algn="l" pos="10121760"/>
                <a:tab algn="l" pos="10755360"/>
                <a:tab algn="l" pos="10779120"/>
                <a:tab algn="l" pos="1078056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iroslaw@faneu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254240"/>
                <a:tab algn="l" pos="1887480"/>
                <a:tab algn="l" pos="2521080"/>
                <a:tab algn="l" pos="3154320"/>
                <a:tab algn="l" pos="3787920"/>
                <a:tab algn="l" pos="4421160"/>
                <a:tab algn="l" pos="5054760"/>
                <a:tab algn="l" pos="5688000"/>
                <a:tab algn="l" pos="6321600"/>
                <a:tab algn="l" pos="6954840"/>
                <a:tab algn="l" pos="7588080"/>
                <a:tab algn="l" pos="8229600"/>
                <a:tab algn="l" pos="8854920"/>
                <a:tab algn="l" pos="9488520"/>
                <a:tab algn="l" pos="10121760"/>
                <a:tab algn="l" pos="10755360"/>
                <a:tab algn="l" pos="10779120"/>
                <a:tab algn="l" pos="1078056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faneu.de/mirosl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ory Attribu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nnt das Produ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ialisierung sehr billig, umson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fzählung sehr einf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zialisierung erlaub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halten programmier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609480"/>
            <a:ext cx="822492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3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Factor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r Factory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Überprüfung des Produkt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3886200"/>
            <a:ext cx="360072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tionFactoryAttribute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t ==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r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rgumentNullExce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t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!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IsAssignableFrom (t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r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rgumentExce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t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eate 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54560" y="5157720"/>
            <a:ext cx="3240000" cy="525600"/>
          </a:xfrm>
          <a:prstGeom prst="borderCallout1">
            <a:avLst>
              <a:gd name="adj1" fmla="val 18750"/>
              <a:gd name="adj2" fmla="val -8333"/>
              <a:gd name="adj3" fmla="val 99791"/>
              <a:gd name="adj4" fmla="val -60259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t eher eine „Factory Method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56360" y="4165560"/>
            <a:ext cx="3240000" cy="720720"/>
          </a:xfrm>
          <a:prstGeom prst="borderCallout1">
            <a:avLst>
              <a:gd name="adj1" fmla="val 18750"/>
              <a:gd name="adj2" fmla="val -8333"/>
              <a:gd name="adj3" fmla="val 142277"/>
              <a:gd name="adj4" fmla="val -38060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r Produkte des Typen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56360" y="2851200"/>
            <a:ext cx="3240000" cy="752400"/>
          </a:xfrm>
          <a:prstGeom prst="borderCallout1">
            <a:avLst>
              <a:gd name="adj1" fmla="val 18750"/>
              <a:gd name="adj2" fmla="val -8333"/>
              <a:gd name="adj3" fmla="val 154995"/>
              <a:gd name="adj4" fmla="val -44435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im Sinne abstrakte K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609480"/>
            <a:ext cx="822492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3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onkrete Fabri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metrisiert mit Produktty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3875040"/>
            <a:ext cx="4933800" cy="25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ttributeUs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ttributeTarge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Assembly, AllowMultiple=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StdAction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ructor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c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dActionFactoryAttribute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ci = t.GetConstructor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] { }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_ci ==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r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rgumentExce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t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eate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_ci.Invoke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70360" y="1979640"/>
            <a:ext cx="3689280" cy="539640"/>
          </a:xfrm>
          <a:prstGeom prst="borderCallout1">
            <a:avLst>
              <a:gd name="adj1" fmla="val 18750"/>
              <a:gd name="adj2" fmla="val -8333"/>
              <a:gd name="adj3" fmla="val 366421"/>
              <a:gd name="adj4" fmla="val -17069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kannt auf Ebene der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30720" y="2700360"/>
            <a:ext cx="3510000" cy="720720"/>
          </a:xfrm>
          <a:prstGeom prst="borderCallout1">
            <a:avLst>
              <a:gd name="adj1" fmla="val 18750"/>
              <a:gd name="adj2" fmla="val -8333"/>
              <a:gd name="adj3" fmla="val 174861"/>
              <a:gd name="adj4" fmla="val -23074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hrere Instanzen für verschiedene Produkte erlau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30720" y="4140360"/>
            <a:ext cx="3510000" cy="720720"/>
          </a:xfrm>
          <a:prstGeom prst="borderCallout1">
            <a:avLst>
              <a:gd name="adj1" fmla="val 18750"/>
              <a:gd name="adj2" fmla="val -8333"/>
              <a:gd name="adj3" fmla="val 130481"/>
              <a:gd name="adj4" fmla="val -39865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aufzurufende 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!!Parameter darf nicht null s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91120" y="5753160"/>
            <a:ext cx="3510000" cy="539640"/>
          </a:xfrm>
          <a:prstGeom prst="borderCallout1">
            <a:avLst>
              <a:gd name="adj1" fmla="val 18750"/>
              <a:gd name="adj2" fmla="val -8333"/>
              <a:gd name="adj3" fmla="val 67819"/>
              <a:gd name="adj4" fmla="val -52726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ugungsa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dere konkrete Fabri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2909880"/>
            <a:ext cx="6640560" cy="35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ttributeUs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ttributeTarge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Assembly, AllowMultiple=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ructor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c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_gui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na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val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stantFactoryAttribute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ci    = t.GetConstructor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] {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}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_ci ==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r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rgumentExce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t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guid  =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gu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name  = na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value = val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eate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_ci.Invoke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bj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] { _guid, _name, _value }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10160" y="2457360"/>
            <a:ext cx="3149640" cy="782640"/>
          </a:xfrm>
          <a:prstGeom prst="borderCallout1">
            <a:avLst>
              <a:gd name="adj1" fmla="val 18750"/>
              <a:gd name="adj2" fmla="val -8333"/>
              <a:gd name="adj3" fmla="val 195120"/>
              <a:gd name="adj4" fmla="val -30750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risiert mit Produkttyp und Produkteigen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70720" y="5219640"/>
            <a:ext cx="2970000" cy="539640"/>
          </a:xfrm>
          <a:prstGeom prst="borderCallout1">
            <a:avLst>
              <a:gd name="adj1" fmla="val 18750"/>
              <a:gd name="adj2" fmla="val -8333"/>
              <a:gd name="adj3" fmla="val 133175"/>
              <a:gd name="adj4" fmla="val -5151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tige Instanz erzeu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 Zaub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2025720"/>
            <a:ext cx="84596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ssembly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StdActionFacto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u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ssembly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A96DE5CD-8266-46ad-8546-40C2B02C72CA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Pi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Ma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PI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ssembly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3E8A646F-F1C6-4bf0-A203-099FEBC3DC89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e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Ma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040" y="2867040"/>
            <a:ext cx="863604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load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loadAssembly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ssemb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GetExecutingAssembly 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 =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ssemb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GetEntryAssembly ().Loca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Directory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 =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Directory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a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GetDirectoryName (loc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File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] fis = di.GetFiles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*PI.dll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forea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File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loadAssembly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ssemb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LoadFile(fi.FullNam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loadAssembly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ssemb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loadActions (as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loadActions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ssemb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] attrs =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]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.GetCustomAttributes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fal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forea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t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t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tem = att.Create 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actions[item.Guid] = ite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21320" y="2965320"/>
            <a:ext cx="2398680" cy="635040"/>
          </a:xfrm>
          <a:prstGeom prst="borderCallout1">
            <a:avLst>
              <a:gd name="adj1" fmla="val 18750"/>
              <a:gd name="adj2" fmla="val -8333"/>
              <a:gd name="adj3" fmla="val 45319"/>
              <a:gd name="adj4" fmla="val -71550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n geladenen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89640" y="3780000"/>
            <a:ext cx="2430360" cy="360360"/>
          </a:xfrm>
          <a:prstGeom prst="borderCallout1">
            <a:avLst>
              <a:gd name="adj1" fmla="val 18750"/>
              <a:gd name="adj2" fmla="val -8333"/>
              <a:gd name="adj3" fmla="val 49949"/>
              <a:gd name="adj4" fmla="val -10740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 den PlugIn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89640" y="4319640"/>
            <a:ext cx="2430360" cy="720720"/>
          </a:xfrm>
          <a:prstGeom prst="borderCallout1">
            <a:avLst>
              <a:gd name="adj1" fmla="val 18750"/>
              <a:gd name="adj2" fmla="val -8333"/>
              <a:gd name="adj3" fmla="val 124935"/>
              <a:gd name="adj4" fmla="val -62962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globalen mit davon Abgelei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89640" y="5219640"/>
            <a:ext cx="2430360" cy="720720"/>
          </a:xfrm>
          <a:prstGeom prst="borderCallout1">
            <a:avLst>
              <a:gd name="adj1" fmla="val 18750"/>
              <a:gd name="adj2" fmla="val -8333"/>
              <a:gd name="adj3" fmla="val 74958"/>
              <a:gd name="adj4" fmla="val -129629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telle einen Prototy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88000" y="1530360"/>
            <a:ext cx="3149640" cy="539640"/>
          </a:xfrm>
          <a:prstGeom prst="borderCallout1">
            <a:avLst>
              <a:gd name="adj1" fmla="val 18750"/>
              <a:gd name="adj2" fmla="val -8333"/>
              <a:gd name="adj3" fmla="val 139972"/>
              <a:gd name="adj4" fmla="val -59611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krete Fabr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39560" y="3770280"/>
            <a:ext cx="2521080" cy="270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kteigenschaften / Bootstrap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ktedi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ialisier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kterzeug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3795840" y="2173320"/>
            <a:ext cx="482436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roductEdi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User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66A8D5F0-1E7C-4b60-B6D1-011257E83DD0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rodu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ewProduk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EditProdukt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rodu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duk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WritePodukt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St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ream, Produkt produk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rodu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Produkt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St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0720" y="4680000"/>
            <a:ext cx="197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0360" y="5040360"/>
            <a:ext cx="1800360" cy="12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00360" y="4680000"/>
            <a:ext cx="18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80000" y="5040360"/>
            <a:ext cx="1621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80000" y="4680000"/>
            <a:ext cx="1621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0360" y="4859280"/>
            <a:ext cx="900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00720" y="4859280"/>
            <a:ext cx="1079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00360" y="5187960"/>
            <a:ext cx="1663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58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Produc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8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Produc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8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Produc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8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Produc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0720" y="5227560"/>
            <a:ext cx="197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0720" y="5767560"/>
            <a:ext cx="197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7840" y="3973680"/>
            <a:ext cx="218484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590400"/>
            <a:ext cx="821844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Zusammenfassu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8000"/>
              </a:lnSpc>
              <a:spcBef>
                <a:spcPts val="887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briken bzw. Metafabriken werden wie Prototypen behandel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rialisierung wird von der .NET Laufzeitumgebung durchgefüh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afabriken erstellen komplexe Fabrik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briken erstellen konkrete Produk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651960" y="5219640"/>
            <a:ext cx="79974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 u="sng">
                <a:solidFill>
                  <a:srgbClr val="0000ff"/>
                </a:solidFill>
                <a:uFillTx/>
                <a:latin typeface="Arial"/>
              </a:rPr>
              <a:t>Eine Fabrik pro Produktty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Über mi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erer, Archit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schung, Entwickl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dows, Unix, Linu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C++, C#, (Jav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C, Web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-25 Jahre davon 10 berufl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04800"/>
            <a:ext cx="822312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53038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as ist eine Class Factor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as sind Prototyp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k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dizierte Fabrik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briken als Prototyp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otstrap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614160"/>
            <a:ext cx="8226360" cy="10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400720" y="2700360"/>
            <a:ext cx="2338200" cy="1440000"/>
            <a:chOff x="5400720" y="2700360"/>
            <a:chExt cx="2338200" cy="1440000"/>
          </a:xfrm>
        </p:grpSpPr>
        <p:grpSp>
          <p:nvGrpSpPr>
            <p:cNvPr id="109" name=""/>
            <p:cNvGrpSpPr/>
            <p:nvPr/>
          </p:nvGrpSpPr>
          <p:grpSpPr>
            <a:xfrm>
              <a:off x="5400720" y="2700360"/>
              <a:ext cx="2338200" cy="1440000"/>
              <a:chOff x="5400720" y="2700360"/>
              <a:chExt cx="2338200" cy="1440000"/>
            </a:xfrm>
          </p:grpSpPr>
          <p:sp>
            <p:nvSpPr>
              <p:cNvPr id="110" name=""/>
              <p:cNvSpPr/>
              <p:nvPr/>
            </p:nvSpPr>
            <p:spPr>
              <a:xfrm>
                <a:off x="5400720" y="2700360"/>
                <a:ext cx="2338200" cy="360000"/>
              </a:xfrm>
              <a:prstGeom prst="roundRect">
                <a:avLst>
                  <a:gd name="adj" fmla="val 44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acto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400720" y="3060360"/>
                <a:ext cx="2338200" cy="1080000"/>
              </a:xfrm>
              <a:prstGeom prst="roundRect">
                <a:avLst>
                  <a:gd name="adj" fmla="val 14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A (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1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B (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1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C (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4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9368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39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Factor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3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9368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39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stellt Objekte eines bestimmte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3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9368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39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zahl der Objekttypen beschrän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3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9368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39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kte Namentlich bekan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0147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614160"/>
            <a:ext cx="8226360" cy="10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4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typ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3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egränzte Anzahl von Objektty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3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 Basisty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3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kterzeugung durch Klo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0147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300720" y="2700360"/>
            <a:ext cx="1619280" cy="2517840"/>
            <a:chOff x="6300720" y="2700360"/>
            <a:chExt cx="1619280" cy="2517840"/>
          </a:xfrm>
        </p:grpSpPr>
        <p:sp>
          <p:nvSpPr>
            <p:cNvPr id="118" name=""/>
            <p:cNvSpPr/>
            <p:nvPr/>
          </p:nvSpPr>
          <p:spPr>
            <a:xfrm>
              <a:off x="6300720" y="2700360"/>
              <a:ext cx="1619280" cy="2517840"/>
            </a:xfrm>
            <a:custGeom>
              <a:avLst/>
              <a:gdLst>
                <a:gd name="textAreaLeft" fmla="*/ 360 w 1619280"/>
                <a:gd name="textAreaRight" fmla="*/ 1618920 w 1619280"/>
                <a:gd name="textAreaTop" fmla="*/ 360 h 2517840"/>
                <a:gd name="textAreaBottom" fmla="*/ 2517480 h 2517840"/>
              </a:gdLst>
              <a:ahLst/>
              <a:rect l="textAreaLeft" t="textAreaTop" r="textAreaRight" b="textAreaBottom"/>
              <a:pathLst>
                <a:path w="21600" h="33583">
                  <a:moveTo>
                    <a:pt x="21" y="0"/>
                  </a:moveTo>
                  <a:arcTo wR="21" hR="21" stAng="16200000" swAng="-5400000"/>
                  <a:lnTo>
                    <a:pt x="0" y="33562"/>
                  </a:lnTo>
                  <a:arcTo wR="21" hR="21" stAng="10800000" swAng="-5400000"/>
                  <a:lnTo>
                    <a:pt x="21579" y="33583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9640" y="2871360"/>
              <a:ext cx="122904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n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79640" y="3404520"/>
              <a:ext cx="122904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n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79640" y="3952080"/>
              <a:ext cx="122904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n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79640" y="4470840"/>
              <a:ext cx="122904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n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609480"/>
            <a:ext cx="822492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3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k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sdatenty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 (Gu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itor (Gu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ne 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754520" y="1994040"/>
            <a:ext cx="3706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na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name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otec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tion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name  = na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Guid    {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irt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mpty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Perform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IBoa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ar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lone  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stimmter Produk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60360" y="2411280"/>
            <a:ext cx="579132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nter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u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7BB60E11-D823-4c8e-A361-3AE2699B5CDA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ush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Push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erform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IBoa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a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um =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Parse (board.Input,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ulture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CurrentUICultur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.Push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lone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u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89520" y="3324240"/>
            <a:ext cx="2430720" cy="539640"/>
          </a:xfrm>
          <a:prstGeom prst="borderCallout1">
            <a:avLst>
              <a:gd name="adj1" fmla="val 18750"/>
              <a:gd name="adj2" fmla="val -8333"/>
              <a:gd name="adj3" fmla="val -15722"/>
              <a:gd name="adj4" fmla="val -156754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tellen über Standard 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stimmter Produk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" y="2340000"/>
            <a:ext cx="4548240" cy="38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nternal 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gui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val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stant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na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guid  = gui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value = val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erform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IBoa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a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.Push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_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guid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eate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_guid, Name, _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89520" y="3022560"/>
            <a:ext cx="2789280" cy="720720"/>
          </a:xfrm>
          <a:prstGeom prst="borderCallout1">
            <a:avLst>
              <a:gd name="adj1" fmla="val 18750"/>
              <a:gd name="adj2" fmla="val -8333"/>
              <a:gd name="adj3" fmla="val 40925"/>
              <a:gd name="adj4" fmla="val -4190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tellen über Benutzerdefinierten 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ltung von Prototype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rialisier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e deserialisiere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glet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oblem der klassischen Factory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e Elemente bekannt im Vora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ochspezialisierte Factory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ennt nur einen Produktty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rialisierte Fact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00000" y="5580000"/>
            <a:ext cx="5938920" cy="896760"/>
            <a:chOff x="900000" y="5580000"/>
            <a:chExt cx="5938920" cy="896760"/>
          </a:xfrm>
        </p:grpSpPr>
        <p:grpSp>
          <p:nvGrpSpPr>
            <p:cNvPr id="137" name=""/>
            <p:cNvGrpSpPr/>
            <p:nvPr/>
          </p:nvGrpSpPr>
          <p:grpSpPr>
            <a:xfrm>
              <a:off x="900000" y="5580000"/>
              <a:ext cx="2159280" cy="896760"/>
              <a:chOff x="900000" y="5580000"/>
              <a:chExt cx="2159280" cy="896760"/>
            </a:xfrm>
          </p:grpSpPr>
          <p:sp>
            <p:nvSpPr>
              <p:cNvPr id="138" name=""/>
              <p:cNvSpPr/>
              <p:nvPr/>
            </p:nvSpPr>
            <p:spPr>
              <a:xfrm>
                <a:off x="900000" y="5580000"/>
                <a:ext cx="2159280" cy="29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acto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0000" y="5877720"/>
                <a:ext cx="2159280" cy="599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 (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680000" y="5580000"/>
              <a:ext cx="2158920" cy="896760"/>
              <a:chOff x="4680000" y="5580000"/>
              <a:chExt cx="2158920" cy="896760"/>
            </a:xfrm>
          </p:grpSpPr>
          <p:sp>
            <p:nvSpPr>
              <p:cNvPr id="141" name=""/>
              <p:cNvSpPr/>
              <p:nvPr/>
            </p:nvSpPr>
            <p:spPr>
              <a:xfrm>
                <a:off x="4680000" y="5580000"/>
                <a:ext cx="2158920" cy="29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duk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680000" y="5877720"/>
                <a:ext cx="2158920" cy="599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lone (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2519280" y="6180120"/>
              <a:ext cx="2160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5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710240" y="1636560"/>
            <a:ext cx="4230720" cy="1621080"/>
          </a:xfrm>
          <a:prstGeom prst="borderCallout1">
            <a:avLst>
              <a:gd name="adj1" fmla="val 18750"/>
              <a:gd name="adj2" fmla="val -8333"/>
              <a:gd name="adj3" fmla="val 89958"/>
              <a:gd name="adj4" fmla="val -47162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Enum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tati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Enumera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_instance =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Enumera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tati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Enumera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s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Enumera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_instance;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EnumeratePrototypes(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Ite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gt; actio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ne</cp:lastModifiedBy>
  <dcterms:modified xsi:type="dcterms:W3CDTF">2006-05-15T10:54:40Z</dcterms:modified>
  <cp:revision>1</cp:revision>
  <dc:subject/>
  <dc:title>Attributed Prototyped Class Factory</dc:title>
</cp:coreProperties>
</file>