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B3E6-D780-47B9-A363-B92130BE5F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58AE-2D7E-4FF6-88CC-0449482AD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1793-39AC-4366-A7C5-F4CA1962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B8F31-046D-478C-A503-856A973A1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97D2-72D2-4279-9A67-1DF6CE1D9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43008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257000"/>
            <a:ext cx="206064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58E4-666A-4578-B13B-811A6D9C5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28E69-ED43-4A7E-A454-8BDB7E651B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7976E-144E-41F9-9257-B7B0985BA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8920" y="2349000"/>
            <a:ext cx="8713800" cy="468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4D60F-98F4-484F-8CC1-D7BDF9878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3525-EC19-495E-ACDF-F790A08D7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425700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C382-E773-4198-A468-F4825A7A4D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30080"/>
            <a:ext cx="312336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257000"/>
            <a:ext cx="6400800" cy="7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7C714-E4FA-4E00-B0CD-744D6DDBE0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A426-C68E-4C8A-B0DC-02AD58F8C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sdn.microsoft.com/asp.net/reference/infrastructure/wdp/default.aspx" TargetMode="External"/><Relationship Id="rId2" Type="http://schemas.openxmlformats.org/officeDocument/2006/relationships/hyperlink" Target="http://der-albert.com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5.2006 –  Albert Wein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inf@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der-alber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 Deployment Projects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.microsoft.com/asp.net/reference/infrastructure/wdp/default.asp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_Offline MS Build-Target</a:t>
            </a:r>
            <a:br>
              <a:rPr sz="2400"/>
            </a:br>
            <a:r>
              <a:rPr b="1" lang="de-DE" sz="2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der-albert.com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(suche nach App_Offline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98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Fertig aus!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 Deployment Projec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s Deployment Mod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bar über MSBuild-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fassung der Assembli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ehrere Deployment Projekt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ie bisherige Funktionalitä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ployment Projekt erstell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eb.config Ersetzung</a:t>
            </a: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omplettes ersetzen von Zwei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kein ändern von vorhandenen Einträ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Überprüfung auf Vollständigkeit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ielangabe mit XPath ohne &lt;configuration /&gt;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ppSettings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ystem.web/compilation=dateiname.conf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b.config Ersetz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SBuild Targe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1484280"/>
            <a:ext cx="4680000" cy="5373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43200" y="1557360"/>
            <a:ext cx="1701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Valid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2000" y="2141640"/>
            <a:ext cx="17625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79960" y="2727360"/>
            <a:ext cx="23677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Compi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21880" y="3311640"/>
            <a:ext cx="18860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Before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74360" y="3897360"/>
            <a:ext cx="19789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spNet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6880" y="4481640"/>
            <a:ext cx="16527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Me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8720" y="5067360"/>
            <a:ext cx="367236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ReplaceWeb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2960" y="5651640"/>
            <a:ext cx="314352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b8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eateVirtualDirec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16640" y="6237360"/>
            <a:ext cx="1529640" cy="429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fterBui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04000" y="1628640"/>
            <a:ext cx="0" cy="4969080"/>
          </a:xfrm>
          <a:prstGeom prst="line">
            <a:avLst/>
          </a:prstGeom>
          <a:ln w="31680">
            <a:solidFill>
              <a:srgbClr val="000080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 Build Targe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semblies Zusammenfass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Seite (wie bisher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ur Seiten und Controls, ohne spezielle Ord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les Zusammenfas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15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ssembly Version setz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tere Einstellung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aweinert</cp:lastModifiedBy>
  <dcterms:modified xsi:type="dcterms:W3CDTF">2006-05-16T15:10:42Z</dcterms:modified>
  <cp:revision>218</cp:revision>
  <dc:subject/>
  <dc:title>Slide 1</dc:title>
</cp:coreProperties>
</file>