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6A4A-E5DA-48F6-BDE0-BDCC82A76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CE16-A1AF-4325-BCC8-F6B32C3C6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5716-DBD4-4DF9-A9B2-EB9340F4A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B121-2FA9-4705-B8B9-393F2917B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1094-44CE-4142-837E-2EC008D45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DCCF-32A1-4A6F-B8C3-BECA97A47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EED2-32BE-447F-B8A2-1C1C0C8BC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F828-AAC3-46DB-8D21-F82549A48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2258-AA28-489C-93EC-5B96608E9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F5EE-F45D-476F-A3F0-D2D25E7EF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FBEB-3FB7-4EF9-9A3D-84C6CB785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E829-D353-4F39-A519-E2A377837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C540-4C5D-45D4-B9B3-152BB70A8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logs.asp.net/rweigelt/archive/2006/05/16/446536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VS Editor Tun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Roland Weig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3989520"/>
            <a:ext cx="8280360" cy="159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dito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nchmal ist der Editor etwas "zäh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lli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ippen allgemein (auffällig z.B. in Kommentar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t ein wenig: NavigationBar absc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enerel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che benutzen sie ständig, andere gar ni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ch persönlich brauche sie ab und zu, will daher nicht darauf verzich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o: An/Abschalten, möglichst bequ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: 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Sub ToggleCSharpNavigationBar(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Dim objShowNavigationBar As EnvDTE.Property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 = DTE.Properties("TextEditor", "CSharp").Item("ShowNavigationBar"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.Value = Not objShowNavigationBar.Value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End Su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(Name egal, z.B. "Misc") oder Vorhand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Hotkey bele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Toolbar-Button defi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chte Maustaste auf Toolbar-Bereich -&gt; Custom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Beschreibung in meinem Web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eblogs.asp.net/rweigelt/archive/2006/05/16/446536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[DEMO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5-16T16:29:13Z</dcterms:modified>
  <cp:revision>235</cp:revision>
  <dc:subject/>
  <dc:title>Slide 1</dc:title>
</cp:coreProperties>
</file>