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5B32E-ED28-4EFD-89E3-0CE91C351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EE75A-1C5B-4EC6-A24A-CB1716377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B17F-694C-45F5-9FC8-0A03E850F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BEEB-ADB6-4754-B830-4B7C3EBF5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04931-5B7C-466F-A2B8-16577C6F5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DDE9D-886E-409E-9B37-BEFD60B55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CCEE-1EC9-4D4A-BB2C-71AADB13F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27EC6-3E9F-4223-B576-934D3E6B82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C0D6-F126-46BE-9487-2B9D192E6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B21F-3CAC-48E2-9818-68B2EDAF5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5E996-01BC-4D8D-8746-8BE36A456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5841-3A1D-4921-8C3F-09C0AD112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D33E-B164-4C8C-9435-0EDD90DA3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80536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tefan.Lange@empira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QuickTip: Remote Debugging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6.5.2006 –  Stefan Lang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Remote Debugging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wendung läuft auf Entwicklungsrechner problem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f dem Produktivsystem passiert „gar nicht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ös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wendung auf Zielrechner remote debug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t Visual Studio 2005 sehr viel einfacher als bis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Remote-Comput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rraussetzungen für den Remote-Rech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tart des Remote Debugging Monitors (msvsmon.ex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Kann von einer Netzfreigabe gestartet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stallation ist ebenfalls mögl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lternativ lässt sich ein Dienst konfiguri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ortfreigaben können automatisch konfiguriert wer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76360" y="2565360"/>
          <a:ext cx="5692680" cy="13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565360"/>
                    <a:ext cx="569268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Host-Comput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rraussetzungen für den Host-Rech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sual Studio 2005 und Source-Code der Anwend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erbindung zum Prozess auf dem Remote-Rech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nmeldung am Remote-Rechner ist nur über einen Benutzer mit Administratorrechten mögl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COM Kommunikation muss ggf. in der Firewall freigegeben se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rick: Auf Remote-Computer gleichen UserName und Passwort wie auf Host einrichten (ggf. Policy auf Host änder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COM Ports: TCP 135, ggf. UDP 4500 und 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inForm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buggen einer WinForms-Anwend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tart der Anwendung auf dem Remote-Rech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bugging-Informationen müssen vorhanden sein (pdb-Date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Öffnen der Solution auf dem Host-Rech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ufruf von Tools =&gt; Attach to Proces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it Prozess auf dem Remote-Rechner verbin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reakpoint setzen und warten bis das Programm dort anhä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gramm auf dem Remote-Rechner ausfüh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rogramm hält am Breakpoint auf dem Host 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SP.NE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buggen einer WebForms-Anwend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Öffnen der Solution auf dem Host-Rech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ufruf von Tools =&gt; Attach to Proces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it IIS-Dienst (aspnet_wp.exe oder w3wp.exe) verbin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reakpoint setzen und warten bis die WebSite ausgeführt wi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fruf der WebSite im Brow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bugging muss in web.config aktiviert sein (debug = tr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r Debugger hält die WebSite am Breakpoint 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chtung: Alle WebSites dieses IIS-Prozesses werden angehal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erbindung herstell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47760" y="1814400"/>
            <a:ext cx="66470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Stefan Lange</dc:creator>
  <dc:description/>
  <dc:language>en-US</dc:language>
  <cp:lastModifiedBy>Stefan Lange</cp:lastModifiedBy>
  <dcterms:modified xsi:type="dcterms:W3CDTF">2006-05-18T17:26:41Z</dcterms:modified>
  <cp:revision>224</cp:revision>
  <dc:subject/>
  <dc:title>Remote Debugging</dc:title>
</cp:coreProperties>
</file>