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FA87-570A-4324-AE95-8360BE8DF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4971600"/>
            <a:ext cx="79246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560" y="5439600"/>
            <a:ext cx="79246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BEB2-8AAA-474E-A5EF-1D71524E0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4971600"/>
            <a:ext cx="386712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65360" y="4971600"/>
            <a:ext cx="386712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5439600"/>
            <a:ext cx="386712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365360" y="5439600"/>
            <a:ext cx="386712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6F7D-9C71-4C0B-BFB2-D557B3F8B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560" y="4971600"/>
            <a:ext cx="25516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84040" y="4971600"/>
            <a:ext cx="25516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63880" y="4971600"/>
            <a:ext cx="25516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560" y="5439600"/>
            <a:ext cx="25516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84040" y="5439600"/>
            <a:ext cx="25516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63880" y="5439600"/>
            <a:ext cx="25516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C843-CE3C-48E0-A869-3B4165229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C7435-F523-44F2-A5B2-9FEC5D979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560" y="4971600"/>
            <a:ext cx="792468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26986-C930-4D6D-8B88-1B0D8B2F5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560" y="4971600"/>
            <a:ext cx="79246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63D87-99F1-4A5F-BD6E-A1475CB21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560" y="4971600"/>
            <a:ext cx="386712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365360" y="4971600"/>
            <a:ext cx="386712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D8503-F118-4354-8FF9-CB75A7BAE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29AAF-42E6-430C-901F-52CFF17E7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560" y="4038120"/>
            <a:ext cx="7924680" cy="43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120A4-AFC6-4C1A-A6D2-CE510AF77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4971600"/>
            <a:ext cx="386712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365360" y="4971600"/>
            <a:ext cx="386712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560" y="5439600"/>
            <a:ext cx="386712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F7E86-3EBA-4522-9627-4DEF0A1CB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560" y="4971600"/>
            <a:ext cx="792468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B1E4-68F2-42FC-B0F3-BE65822D2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4971600"/>
            <a:ext cx="386712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5360" y="4971600"/>
            <a:ext cx="386712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65360" y="5439600"/>
            <a:ext cx="386712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F2154-D25A-40E2-B473-5C1918E7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560" y="4971600"/>
            <a:ext cx="386712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5360" y="4971600"/>
            <a:ext cx="386712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560" y="5439600"/>
            <a:ext cx="79246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4C7A0-14CA-4D8C-B341-4765C841A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4971600"/>
            <a:ext cx="79246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560" y="5439600"/>
            <a:ext cx="79246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38F21-3927-4A42-95FD-EF5F27F77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560" y="4971600"/>
            <a:ext cx="386712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65360" y="4971600"/>
            <a:ext cx="386712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560" y="5439600"/>
            <a:ext cx="386712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365360" y="5439600"/>
            <a:ext cx="386712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9546C-300D-488E-88F4-B8938C7CA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560" y="4971600"/>
            <a:ext cx="25516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984040" y="4971600"/>
            <a:ext cx="25516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63880" y="4971600"/>
            <a:ext cx="25516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560" y="5439600"/>
            <a:ext cx="25516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984040" y="5439600"/>
            <a:ext cx="25516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63880" y="5439600"/>
            <a:ext cx="25516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E8DBD-1CA2-4AE8-B5CB-36AFEEE4E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560" y="4971600"/>
            <a:ext cx="79246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05DE-70B6-4DA2-8337-BC05F9082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4971600"/>
            <a:ext cx="386712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65360" y="4971600"/>
            <a:ext cx="386712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0259-5ED4-47AE-ADB9-A6770EDD6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3AA2-B565-4008-8EB1-EF13CCF8D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560" y="4038120"/>
            <a:ext cx="7924680" cy="43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BD8F-8AB2-4D79-B453-09E247058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4971600"/>
            <a:ext cx="386712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5360" y="4971600"/>
            <a:ext cx="386712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560" y="5439600"/>
            <a:ext cx="386712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EE8B-C556-48F3-AFDB-E4928C3B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4971600"/>
            <a:ext cx="386712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5360" y="4971600"/>
            <a:ext cx="386712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65360" y="5439600"/>
            <a:ext cx="386712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F446-E8DD-45EF-9CA4-30EA0AA1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560" y="4971600"/>
            <a:ext cx="386712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65360" y="4971600"/>
            <a:ext cx="386712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560" y="5439600"/>
            <a:ext cx="79246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234C-F2FC-4058-A486-8A285D542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8080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C7E5E-02F4-4521-AEE4-77718FF16D54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8080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76287-E501-49F0-B21C-0E94A4A34425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AJAX mit ASP.NE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4560" y="4971600"/>
            <a:ext cx="792468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Tahoma"/>
              </a:rPr>
              <a:t>Grundlagen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0" y="6400800"/>
            <a:ext cx="75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80808"/>
                </a:solidFill>
                <a:latin typeface="Tahoma"/>
              </a:rPr>
              <a:t>Bonn-To-Code.NET, 18.04.2006, Albert Weinert, info@der-albert.com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AJAX Probleme 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Keine Allheilmitt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So gut wie kein Fallback möglich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Barrierefreihei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Suchmaschinen Indizierung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Benutzerfeedback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Lesezeichen und Historie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Postback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Viewstate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Datenübergabe an Clien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Nur Tex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Einfache Strukturen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Aufwendig zu verarbeiten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XM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Komplexere Strukturen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per DOM zu verarbeiten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Browserunterschiede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per XSLT transformierbar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Datenübergabe an Clien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Javascript Object Notation (JSON)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Komplexere Strukturen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kein Parsen notwendig (via eval())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Browserübergreifend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schneller und Platz sparender als XML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Eingebautes „AJAX“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ASP.NET 1.1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nicht wirklich</a:t>
            </a:r>
            <a:br>
              <a:rPr sz="2800"/>
            </a:b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ASP.NET 2.0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Client Callbacks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TreeView (Populate)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GridView (Sorting, Paging)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DetailsView (Paging)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DEMO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304560" y="4971600"/>
            <a:ext cx="792468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80808"/>
                </a:solidFill>
                <a:latin typeface="Tahoma"/>
              </a:rPr>
              <a:t>Client Callbacks, Datenübergabe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AJAX.NET Professional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Framework für „pures“ AJAX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Clientseitiger Aufruf von Servermethoden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Nur „Remote Scripting“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Nur Datenaustausch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Automatische JSON Konvertierung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Exception Handling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Request-Warteschlange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DEMO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04560" y="4971600"/>
            <a:ext cx="792468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80808"/>
                </a:solidFill>
                <a:latin typeface="Tahoma"/>
              </a:rPr>
              <a:t>AJAX mit Ajax.NET Pro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Sicherhei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304560" y="4971600"/>
            <a:ext cx="792468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80808"/>
                </a:solidFill>
                <a:latin typeface="Tahoma"/>
              </a:rPr>
              <a:t>Sicherheits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Javascript ist einsehbar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Eingaben überprüfen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Requests nur auf der gleichen Domain möglich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Javascript-Aufrufe manipulierbar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KAMMERJÄGER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304560" y="4971600"/>
            <a:ext cx="792468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Tahoma"/>
              </a:rPr>
              <a:t>Javascript Debugging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Über mich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Albert Weinert</a:t>
            </a:r>
            <a:br>
              <a:rPr sz="3200"/>
            </a:b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Softwareentwickler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Angestellter und Freiberufler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.NET 2.0 seit Whidbey Beta 2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AJAX Entwicklung seit einem Jahr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Softwareentwicklung schon ewig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Webentwicklung halb so lang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80808"/>
                </a:solidFill>
                <a:latin typeface="Tahoma"/>
              </a:rPr>
              <a:t>Debuggen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Internet Explorer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Skriptfehler anzeigen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Debuggen im Visual Studio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Skriptexplorer</a:t>
            </a:r>
            <a:br>
              <a:rPr sz="2800"/>
            </a:b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Firefox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Venkman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keine Visual Studio Unterstützung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Debugging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Internet Explorer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Fiddler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Web Developer Toolbar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Firefox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Web Developer Toolbar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Live Http Header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DEMO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304560" y="4971600"/>
            <a:ext cx="792468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80808"/>
                </a:solidFill>
                <a:latin typeface="Tahoma"/>
              </a:rPr>
              <a:t>Debuggen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AJAX Frameworks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04560" y="4971600"/>
            <a:ext cx="792468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Tahoma"/>
              </a:rPr>
              <a:t>Mehr Auswahl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Frameworks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„</a:t>
            </a: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Postbacker“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einfachste Anwendung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Rendert immer komplette Seite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tauscht geändertes HTML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erhält Viewstate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theoretisch Fallback möglich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erhöhte Serverbelastung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keine optimierten Controls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Frameworks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„</a:t>
            </a: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Remote Scripter“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reiner Datenautasch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Viewstate Probleme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kein Rendern der Seite auf Server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Clientseitiges Rendern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Fallback sehr, sehr, sehr schwierig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Serverlast geringer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Weniger Datentransfer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mehr Arbeit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Frameworks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AJAX.NET Professiona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Remote Scripter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ComfortASP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Postbacker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MagicAjax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Postbacker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Anthem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Postbacker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Microsoft Atla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Postbacker, Remote Scripter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Fertig Aus!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304560" y="4971600"/>
            <a:ext cx="792468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Was ist AJAX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Was ist AJAX nich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AJAX per Hand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AJAX mit Ajax.NET Pro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Debugging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Weitere Framework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AJAX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Asynchronous Javascript and XM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Kombination vorhandener Techniken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Per Javascript abgerufene „Webseiten“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via XMLHttpRequest bzw. XmlHttp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Einbringen des Ergebnisses in die Seite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weniger Postback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AJAX ist was man daraus macht.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80808"/>
                </a:solidFill>
                <a:latin typeface="Tahoma"/>
              </a:rPr>
              <a:t>XMLHttpRequest Browser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Internet Explorer ab 5.0 (Active X)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Internet Explorer ab 7.0 (Native, Active X)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Firefox ab 1.0 (Mozilla Suite, Seamonkey)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Safari ab 1.2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Opera ab 8.0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Netscape ab 7.1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Konqueror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iCab ab 3.0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Bekanntere AJAX Sites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Google Map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Google Sugges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Windows Live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Windows Live Local (Virtual Earth)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Google Calendar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Ajax Write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DEMO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304560" y="4971600"/>
            <a:ext cx="792468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Tahoma"/>
              </a:rPr>
              <a:t>Einfaches AJAX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Was ist AJAX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Rückschritt in der Entwicklung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Mehrere Sprachen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Schwieriger zu Debuggen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Mehraufwand in der Entwicklung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Verlagerung vom Server auf den Clien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AJAX ist was man daraus mach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80808"/>
                </a:solidFill>
                <a:latin typeface="Tahoma"/>
              </a:rPr>
              <a:t>AJAX ist was man daraus macht</a:t>
            </a: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Verbesserte Benutzerführung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Weniger Postback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Weniger Datenverkehr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Schnellere Website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6T18:49:12Z</dcterms:created>
  <dc:creator>aweinert</dc:creator>
  <dc:description/>
  <dc:language>en-US</dc:language>
  <cp:lastModifiedBy>Albert Weinert</cp:lastModifiedBy>
  <dcterms:modified xsi:type="dcterms:W3CDTF">2006-04-20T14:30:33Z</dcterms:modified>
  <cp:revision>24</cp:revision>
  <dc:subject/>
  <dc:title>AJAX mit ASP.NET</dc:title>
</cp:coreProperties>
</file>