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7133-EC43-4727-BFEA-189FCBEDC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32E2-8849-4E0A-B5F4-809EB2016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8B10-2C01-417B-B91A-4CF61A202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8026-38EF-4A3A-AF9C-9722B5C98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7F805-E448-431E-9F19-03AC6542C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04C3-DE64-460D-B080-2E960F23C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A6595-35EF-4370-A209-18DA714D5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2518-CA2E-4C1A-9720-90091DE4B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4D09-1FDB-4E6E-85F3-6F466540B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283A-22E4-4119-9A07-2FE0FFF6D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B8D1-3925-49EF-8E66-D23928E29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4FBB-CDB6-4BE8-8EEB-2F7B658F1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FC30C-00DB-4CCB-824B-C3960060C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E549-C425-4633-8773-F8483B978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F0F6-CF60-4045-B423-00C2E53E3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BD49-75E4-4952-A08B-0C54C5872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435E-C1A8-4513-B2EF-F93FB847A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randyrants.com/2007/02/vista_tip_eleva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hellrevealed.com/blogs/shellblog/archive/2006/10/16/Do-things-faster-with-Keyboard-Shortcuts.aspx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hanselman.com/blog/MoreOnVistaReparsePoints.aspx" TargetMode="External"/><Relationship Id="rId2" Type="http://schemas.openxmlformats.org/officeDocument/2006/relationships/hyperlink" Target="http://www.hanselman.com/blog/WindowsVistaJunctionsAndMovingMyDocumentsToAnotherDrive.aspx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sdn2.microsoft.com/en-us/library/aa965711.aspx" TargetMode="External"/><Relationship Id="rId2" Type="http://schemas.openxmlformats.org/officeDocument/2006/relationships/hyperlink" Target="http://blogs.msdn.com/cheller/archive/2006/12/05/advanced-query-syntax-what-where-why-and-how.aspx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Vista in der Praxi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27.02.2007 –  Jens Scha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contact@jens-schaller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jens-schaller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ta – Desktop Composi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ies und Da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ogramme schnell mit Administrator Rechten star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gramm über Startmenü such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trl+Shift+Enter startet Programm mit Administrator Rech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rweiterter Task-Manag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Jetzt mit Services-Tab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1500120" y="2928960"/>
            <a:ext cx="6100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ntrol Panel - Sehenswer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ontrol Panel -&gt; System and Maintenance -&gt; Performance Information and Tool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214960" y="3000240"/>
            <a:ext cx="255744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fad der aktuellen Datei kopier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 Windows Explor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Shift+Rechtsklick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uf Ordner oder Dat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Copy as Pat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 Prompt Her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 Windows Explor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Shift+Rechtklick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uf einen Ordner (nur im rechten Fensterbereic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m Kontextmenü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Command Prompt he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levated Command Prompt Her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icht „ab Werk“, aber durch einfaches REG-File mögli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randyrants.com/2007/02/vista_tip_eleva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4286160" y="3929040"/>
            <a:ext cx="38721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nipping Tool – für Screensho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um Erstellen von Screensho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peichern im gif, jpg, png, mht Format oder über die Zwischenabl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odi: Fullscreen, Fenster, Rechteckiger Ausschnitt, Frei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st in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Tablet PC Optional Components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enthal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428920" y="4500720"/>
            <a:ext cx="42861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indows Mobility Cent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ür Notebook Besitzer sehr interessa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fruf mit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Win+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803240" y="3214800"/>
            <a:ext cx="54835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inführ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ipps, Tipps, Tipp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az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ie wichtigsten Vista Shortcu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5072040"/>
            <a:ext cx="822960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sführliche Liste: 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shellrevealed.com/blogs/shellblog/archive/2006/10/16/Do-things-faster-with-Keyboard-Shortcuts.aspx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628640"/>
          <a:ext cx="8229600" cy="2941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+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tant Search box wäh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+T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ip 3D star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+Shift+E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m im Startmenü mit administrativen Rechten star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+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rtet Eintrag aus QuickLaunch Toolbar mit entsprechender Position.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ispiel: Win+2 würde Outlook starten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+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dows Mobility Center öff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4643280" y="3929040"/>
            <a:ext cx="107172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Benutzerordner in Vista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nutzerordner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Sämtliche Benutzerordner liegen unter </a:t>
            </a:r>
            <a:r>
              <a:rPr b="1" i="1" lang="de-DE" sz="2200" spc="-1" strike="noStrike">
                <a:solidFill>
                  <a:srgbClr val="000000"/>
                </a:solidFill>
                <a:latin typeface="Tahoma"/>
              </a:rPr>
              <a:t>c:\users\&lt;Benutzername&gt;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Im Explorer wird unterhalb vom </a:t>
            </a:r>
            <a:r>
              <a:rPr b="1" i="1" lang="de-DE" sz="2200" spc="-1" strike="noStrike">
                <a:solidFill>
                  <a:srgbClr val="000000"/>
                </a:solidFill>
                <a:latin typeface="Tahoma"/>
              </a:rPr>
              <a:t>Desktop  </a:t>
            </a: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Ordner ein Ordner </a:t>
            </a:r>
            <a:r>
              <a:rPr b="1" i="1" lang="de-DE" sz="2200" spc="-1" strike="noStrike">
                <a:solidFill>
                  <a:srgbClr val="000000"/>
                </a:solidFill>
                <a:latin typeface="Tahoma"/>
              </a:rPr>
              <a:t>Benutzername </a:t>
            </a: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angezeigt. Hier befinden sich Links auf sämtliche Benutzerordn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Alle Benutzerorder liegen in englischer Sprache vo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Explorer deutscht Ordnernamen über </a:t>
            </a:r>
            <a:r>
              <a:rPr b="0" i="1" lang="de-DE" sz="2200" spc="-1" strike="noStrike">
                <a:solidFill>
                  <a:srgbClr val="000000"/>
                </a:solidFill>
                <a:latin typeface="Tahoma"/>
              </a:rPr>
              <a:t>Desktop.ini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  e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lnSpc>
                <a:spcPct val="90000"/>
              </a:lnSpc>
              <a:spcBef>
                <a:spcPts val="476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ahoma"/>
              </a:rPr>
              <a:t>Das funktioniert auch mit Dateien! -&gt; Ein Angriffspunkt für Vire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Es wird massiv mit Symbolic Links gearbeite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=&gt; Verschieben über Registry Hacks gefährlich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326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Mehr Infos: </a:t>
            </a:r>
            <a:br>
              <a:rPr sz="2200"/>
            </a:br>
            <a:r>
              <a:rPr b="0" lang="de-DE" sz="13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hanselman.com/blog/MoreOnVistaReparsePoints.aspx</a:t>
            </a:r>
            <a:br>
              <a:rPr sz="1300"/>
            </a:br>
            <a:r>
              <a:rPr b="0" lang="de-DE" sz="13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hanselman.com/blog/WindowsVistaJunctionsAndMovingMyDocumentsToAnotherDrive.aspx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nutzerordner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Um Benutzerordner zu verschieben sind keine extra Tools mehr nöti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in Ordner verschiebt man wie folgt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chtsklick auf Benutzerordner -&gt;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Location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Tab wäh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Move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klicken und Zielort wäh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nutzerordner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o sind die StartMenu, SendTo, etc. Ordner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:\Users\&lt;username&gt;\AppData\Roaming\Microsoft\Wind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chtig: Um den AppData Ordner zu sehen muss die Option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how hidden files and folders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im Explorer gewählt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Windows Explor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lt+T (Tools Menü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Folder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View Ta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chnellerer Weg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Shell:sendto im Schnellsuchfeld eingeben (Vista Butt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ies und Da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eil 2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in UAC Elevation Prompt für Standard-User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s Standard-User kann es lästig sein, für Programme die Administrator Rechte benötigen ständig das UAC Elevation Prompt zu seh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ieses Verhalten kann jedoch abgeschaltet werd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r Bildschirm wird nicht mehr abgedunk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Elevation Prompt erscheint nicht meh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in UAC Elevation Prompt für Standard-User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olgende Schritte sind notwendig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ocal Security Policy (secpol.msc) öff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ter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Security Settings -&gt; Local Policies -&gt; Security Option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den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Eintra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er Account Control: Behavior of the elevation prompt for standard user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öff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pt for credenti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u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omatically deny elevation reques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mste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ackup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ackup and Restore Cent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weder Datei basiert oder Erstellung eines kompletten 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mage wird als .vhd Datei gespeichert und kann unter VirtualPC gemountet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ooten des Image unter VirtualPC funktioniert nicht, aber es gibt bereits Leute die daran „arbeiten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rücklesen kann entweder aus dem laufenden System erfolgen oder über die Vista Install-DVD (Recovery Modu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creencast dazu: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ttp://channel9.msdn.com/ShowPost.aspx?PostID=229767#22976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ofile für Spracherkennung auf anderen PC übertrag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Start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klick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Easy Transfer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eingeb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Windows Easy Transfer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start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Start a new transfer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My Old Computer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rt des Transfers aus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uf der Seite „</a:t>
            </a: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What do you want to transfer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Advanced Options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lle Einträge ab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en Knoten mit dem eigenen Benutzernamen aufklapp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en </a:t>
            </a: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Windows Settings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Knoten aufklapp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en </a:t>
            </a: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Sound and Speech Recognition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Knoten aufklapp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en Knoten </a:t>
            </a: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Speech Recognition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aus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Next &amp; Ferti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1440" y="466200"/>
            <a:ext cx="8229600" cy="10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Windows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187440" y="3262320"/>
            <a:ext cx="759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308240" y="1960560"/>
            <a:ext cx="2492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etwork Access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85640" y="3162240"/>
            <a:ext cx="265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Network Location Awa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46880" y="2854440"/>
            <a:ext cx="23414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High Resolution/High D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544280" y="5931000"/>
            <a:ext cx="1846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Windows Sides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692440" y="4119480"/>
            <a:ext cx="3257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Windows Vista Display Driver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352480" y="3341520"/>
            <a:ext cx="15123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People Near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5073480" y="5411880"/>
            <a:ext cx="17866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Def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2114280" y="3602160"/>
            <a:ext cx="18568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Power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7926120" y="3693960"/>
            <a:ext cx="1056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Live Ic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419960" y="1830240"/>
            <a:ext cx="16891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Windows Side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7507800" y="2595600"/>
            <a:ext cx="16711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ental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695480" y="1890720"/>
            <a:ext cx="26204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Feedback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4725720" y="4627440"/>
            <a:ext cx="23994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Desktop Window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5258160" y="3097080"/>
            <a:ext cx="31125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gistry/File System Virtu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313200" y="2529000"/>
            <a:ext cx="1739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tected Mode 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5274000" y="3627360"/>
            <a:ext cx="25808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Service Hard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3512160" y="1752480"/>
            <a:ext cx="12243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Sync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3025080" y="1544760"/>
            <a:ext cx="5904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A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2250000" y="2550960"/>
            <a:ext cx="2016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Presentation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352440" y="3994200"/>
            <a:ext cx="1335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Preview 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694800" y="1617840"/>
            <a:ext cx="2273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ser Account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-5760" y="2220840"/>
            <a:ext cx="2370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Ad-hoc Meeting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7002000" y="3395520"/>
            <a:ext cx="13251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Quick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4458600" y="2511360"/>
            <a:ext cx="2352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Imaging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3011400" y="4386240"/>
            <a:ext cx="2757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Resource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8273520" y="2971800"/>
            <a:ext cx="9075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MC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2663640" y="2916360"/>
            <a:ext cx="14148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ancelable I/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3254400" y="6126120"/>
            <a:ext cx="30639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source Exhaustion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5098680" y="3916440"/>
            <a:ext cx="2849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Peer Name Resolution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7023240" y="2351160"/>
            <a:ext cx="1361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Reading 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133200" y="6515280"/>
            <a:ext cx="2451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Disk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6099840" y="1620720"/>
            <a:ext cx="15811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start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7"/>
          <p:cNvSpPr/>
          <p:nvPr/>
        </p:nvSpPr>
        <p:spPr>
          <a:xfrm>
            <a:off x="5840280" y="4238640"/>
            <a:ext cx="2106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ransactional Reg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1948680" y="3398760"/>
            <a:ext cx="13053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ingle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9"/>
          <p:cNvSpPr/>
          <p:nvPr/>
        </p:nvSpPr>
        <p:spPr>
          <a:xfrm>
            <a:off x="2886120" y="4708440"/>
            <a:ext cx="1927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7102800" y="4681440"/>
            <a:ext cx="20473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artup Repair Tool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6461280" y="5821200"/>
            <a:ext cx="2385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ransactional Fil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513000" y="5956200"/>
            <a:ext cx="26982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venting and Instr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4209480" y="1494000"/>
            <a:ext cx="16174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S-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3817800" y="5583240"/>
            <a:ext cx="9165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fo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2988720" y="3843360"/>
            <a:ext cx="1163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uperFe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6762600" y="5580000"/>
            <a:ext cx="13813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Segoe UI F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5941800" y="5165640"/>
            <a:ext cx="7290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Flip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6848280" y="6081840"/>
            <a:ext cx="14241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New Explor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074960" y="4500720"/>
            <a:ext cx="1916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Taskbar Thumbn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8379000" y="3311640"/>
            <a:ext cx="552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674880" y="5886360"/>
            <a:ext cx="6879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XA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7194240" y="4437000"/>
            <a:ext cx="1472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Search F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6730200" y="2119320"/>
            <a:ext cx="12258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Ink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7903800" y="4071960"/>
            <a:ext cx="12441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plit Tok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-7200" y="5492880"/>
            <a:ext cx="25214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andatory Integrity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7045920" y="6629400"/>
            <a:ext cx="19422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I Privilege Iso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2419200" y="2316240"/>
            <a:ext cx="14529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cure Star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3418560" y="5040360"/>
            <a:ext cx="2494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Filtering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292680" y="4761000"/>
            <a:ext cx="26629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ser Mode Driver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1369080" y="5711760"/>
            <a:ext cx="2215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New Open/Save Dialo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-5400" y="3513240"/>
            <a:ext cx="20793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Shell Propert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424440" y="4264200"/>
            <a:ext cx="22928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logon Re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5038200" y="2798640"/>
            <a:ext cx="33764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Windows Communication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3692880" y="2168640"/>
            <a:ext cx="31111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Windows Presentation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2214000" y="3898800"/>
            <a:ext cx="671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2594160" y="5308560"/>
            <a:ext cx="25714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Open Package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84240" y="6208560"/>
            <a:ext cx="22654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XML Paper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5824440" y="4919760"/>
            <a:ext cx="28339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Windows Workflow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451800" y="5211720"/>
            <a:ext cx="20001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Installer 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0"/>
          <p:cNvSpPr/>
          <p:nvPr/>
        </p:nvSpPr>
        <p:spPr>
          <a:xfrm>
            <a:off x="329040" y="1908000"/>
            <a:ext cx="756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on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1"/>
          <p:cNvSpPr/>
          <p:nvPr/>
        </p:nvSpPr>
        <p:spPr>
          <a:xfrm>
            <a:off x="7838640" y="5361120"/>
            <a:ext cx="13251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RSS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2"/>
          <p:cNvSpPr/>
          <p:nvPr/>
        </p:nvSpPr>
        <p:spPr>
          <a:xfrm>
            <a:off x="1254960" y="4941720"/>
            <a:ext cx="21844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Function Discovery 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3"/>
          <p:cNvSpPr/>
          <p:nvPr/>
        </p:nvSpPr>
        <p:spPr>
          <a:xfrm>
            <a:off x="4820400" y="5668920"/>
            <a:ext cx="17715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Wizard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4"/>
          <p:cNvSpPr/>
          <p:nvPr/>
        </p:nvSpPr>
        <p:spPr>
          <a:xfrm>
            <a:off x="42120" y="3757680"/>
            <a:ext cx="21844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rypto Next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5"/>
          <p:cNvSpPr/>
          <p:nvPr/>
        </p:nvSpPr>
        <p:spPr>
          <a:xfrm>
            <a:off x="6944760" y="5145120"/>
            <a:ext cx="19299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redential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Form 954370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257280" cy="14810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74"/>
          <p:cNvSpPr/>
          <p:nvPr/>
        </p:nvSpPr>
        <p:spPr>
          <a:xfrm>
            <a:off x="2840760" y="6477120"/>
            <a:ext cx="3219480" cy="30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fident</a:t>
            </a:r>
            <a:r>
              <a:rPr b="0" lang="en-US" sz="1600" spc="-1" strike="noStrike">
                <a:solidFill>
                  <a:srgbClr val="000000"/>
                </a:solidFill>
                <a:latin typeface="Segoe UI"/>
              </a:rPr>
              <a:t> |  </a:t>
            </a: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Clear</a:t>
            </a:r>
            <a:r>
              <a:rPr b="1" lang="en-US" sz="1600" spc="-1" strike="noStrike">
                <a:solidFill>
                  <a:srgbClr val="bbe0e3"/>
                </a:solidFill>
                <a:latin typeface="Segoe U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egoe UI"/>
              </a:rPr>
              <a:t>|  </a:t>
            </a:r>
            <a:r>
              <a:rPr b="1" lang="en-US" sz="1600" spc="-1" strike="noStrike">
                <a:solidFill>
                  <a:srgbClr val="99ff33"/>
                </a:solidFill>
                <a:latin typeface="Arial"/>
              </a:rPr>
              <a:t>Conn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2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4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6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8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2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4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6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8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2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4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6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8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2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4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6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8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2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4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6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8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2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4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6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8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2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6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2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4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96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8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2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4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6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8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12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14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16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18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2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24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6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8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32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34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36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38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2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azi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Vista ist kein bahnbrechendes System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Features wie „Voll skalierbare Oberflächen“ und „WinFS“ fehl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Vista ist ein sehr gut abgerundetes X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Stylisches Interfa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Coole Performance To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Sehr gut nutzbares Backu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Bessere Sicherhe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Schnelle und einfache Suchmöglichkeit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Besseres Wireless Networ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Besserer Notebook Supp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Besseres Window Management dank DW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Verbesserte Stabilitä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ating A Bootable WinPE 2.0 USB Key</a:t>
            </a:r>
            <a:br>
              <a:rPr sz="2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windowsconnected.com/blogs/joshs_blog/archive/2007/02/05/creating-a-bootable-winpe-2-0-usb-key.aspx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st-Buy Vista Videos</a:t>
            </a:r>
            <a:br>
              <a:rPr sz="2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http://images.bestbuy.com/BestBuy_US/en_US/images/computers/features/windowsvista/vid_easier.wvx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http://images.bestbuy.com/BestBuy_US/en_US/images/computers/features/windowsvista/vid_enhanced.wvx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http://images.bestbuy.com/BestBuy_US/en_US/images/computers/features/windowsvista/vid_entertain.wvx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http://images.bestbuy.com/BestBuy_US/en_US/images/computers/features/windowsvista/vid_mobile.wvx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The End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nke für‘s Zuhör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Suchen in Vista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uchen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628280"/>
            <a:ext cx="4329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48760" indent="-248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tartmenü Such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8600" indent="-26064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urchsucht gesamten Index und das Startmen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8600" indent="-26064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austregel: Alles, was im Explorer im Ordner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&lt;Benutzername&gt;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unterhalb von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Desktop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enthalten ist, wird out-of-the-box durchsuc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8600" indent="-26064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avoriten, Verlauf, Kontakte, E-Mails werden ebenfalls durchsuc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5000760" y="1785960"/>
            <a:ext cx="39240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uchen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rweiterte und natürlich sprachliche Such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uchanfragen, wie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documents modified last month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der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kind:docs modified:last month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nd mögl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r Aktivierung sind folgende Schritte notwendi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m Windows Explorer auf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Organiz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klic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Folder and Search Option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uf dem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Search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Tab die Option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Use natural language search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prachumfang: </a:t>
            </a:r>
            <a:br>
              <a:rPr sz="2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msdn2.microsoft.com/en-us/library/aa965711.asp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itere Infos: </a:t>
            </a:r>
            <a:br>
              <a:rPr sz="2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blogs.msdn.com/cheller/archive/2006/12/05/advanced-query-syntax-what-where-why-and-how.asp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uchen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Jede Suche kann gespeichert werd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ach einer Suche im Windows Explorer den Button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Save Searc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klic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uchen werden im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Searche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rdner gespeich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uchen werden als XML Dateien mit der Endung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.search-m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gespeich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sktop Composition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sktop Composi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rd durch den Desktop Window Manager  (DMW) gesteuert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inzelne Fenster werden nicht mehr angewiesen Ihren sichtbaren Bereich selbst auf den Bildschirm zu zeichn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Jedem Fenster wird ein sog.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offscreen surfac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(Bitmap, Textur, Puffer) zugewies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r DWM komponiert aus diesen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offscreen surfaces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n eigentlichen Deskto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20:15:54Z</dcterms:created>
  <dc:creator>Jens Schaller</dc:creator>
  <dc:description/>
  <dc:language>en-US</dc:language>
  <cp:lastModifiedBy>Jens Schaller</cp:lastModifiedBy>
  <dcterms:modified xsi:type="dcterms:W3CDTF">2007-03-02T06:39:29Z</dcterms:modified>
  <cp:revision>95</cp:revision>
  <dc:subject/>
  <dc:title>Vortragstitel</dc:title>
</cp:coreProperties>
</file>